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8A6-2E13-44D6-BDE0-152F27C1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989-85AD-4C07-90DF-AF650159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CC7-4A6E-4890-A5ED-5E08DEF8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0C6-68D7-40DD-A20E-07B2F2B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519C-72EF-45B3-A1BB-AC3D919C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7D4-82D7-46D1-BE85-6C8B8454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FE9E-7680-42FF-BC29-BCE1829F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F6D5-B007-461A-82E4-E3B741C7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D04A-B746-40F6-A9BA-8F3D4C7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2267-5CBF-4F99-9D61-0FC698ED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CD01-76C8-4EA7-B604-160D4A2C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AA8-A383-457C-A11F-A1995FA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AF0-4AA3-4C4B-AFAF-C5A8AAE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788-C8EB-4540-977B-9E299A0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00D-9A68-4489-8907-D26A4A25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9217-C55E-419F-A40F-1C95EE0C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05A7-3E8C-4A7E-B493-B404C80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C02-F1CC-4FCC-93D4-97F1F45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564-E3A3-4A3F-B465-450BF5A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1BC-3AAD-4265-A784-8350EAD2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646-DE3E-477B-A3F2-FB2B4DA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73F-BB0B-4082-AFC1-1130C74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162-19BB-4948-900B-ABA14CC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A4A-66BF-496E-8EF9-F84DD09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8D1-B567-4E72-8BC7-73E75E3E2C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5A9-88C9-4D38-AF4E-F321730218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 Students will distinguish between rate and unit rat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io of two measures that have different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ate with a denominator of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009800" y="3776760"/>
            <a:ext cx="803160" cy="54000"/>
          </a:xfrm>
          <a:custGeom>
            <a:avLst/>
            <a:gdLst/>
            <a:ahLst/>
            <a:rect l="l" t="t" r="r" b="b"/>
            <a:pathLst>
              <a:path w="2233" h="150">
                <a:moveTo>
                  <a:pt x="2803" y="10492"/>
                </a:moveTo>
                <a:cubicBezTo>
                  <a:pt x="2949" y="10516"/>
                  <a:pt x="3101" y="10555"/>
                  <a:pt x="3249" y="10567"/>
                </a:cubicBezTo>
                <a:cubicBezTo>
                  <a:pt x="3395" y="10579"/>
                  <a:pt x="3552" y="10589"/>
                  <a:pt x="3696" y="10616"/>
                </a:cubicBezTo>
                <a:cubicBezTo>
                  <a:pt x="3838" y="10643"/>
                  <a:pt x="3971" y="10641"/>
                  <a:pt x="4118" y="10641"/>
                </a:cubicBezTo>
                <a:cubicBezTo>
                  <a:pt x="4303" y="10641"/>
                  <a:pt x="4480" y="10621"/>
                  <a:pt x="4663" y="10616"/>
                </a:cubicBezTo>
                <a:cubicBezTo>
                  <a:pt x="4778" y="10613"/>
                  <a:pt x="4959" y="10637"/>
                  <a:pt x="5035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44920" y="3367080"/>
            <a:ext cx="1590480" cy="384120"/>
          </a:xfrm>
          <a:custGeom>
            <a:avLst/>
            <a:gdLst/>
            <a:ahLst/>
            <a:rect l="l" t="t" r="r" b="b"/>
            <a:pathLst>
              <a:path w="4417" h="1068">
                <a:moveTo>
                  <a:pt x="10145" y="9624"/>
                </a:moveTo>
                <a:cubicBezTo>
                  <a:pt x="10243" y="9576"/>
                  <a:pt x="10289" y="9532"/>
                  <a:pt x="10393" y="9500"/>
                </a:cubicBezTo>
                <a:cubicBezTo>
                  <a:pt x="10529" y="9477"/>
                  <a:pt x="10567" y="9463"/>
                  <a:pt x="10641" y="9525"/>
                </a:cubicBezTo>
                <a:cubicBezTo>
                  <a:pt x="10602" y="9761"/>
                  <a:pt x="10532" y="9888"/>
                  <a:pt x="10294" y="9996"/>
                </a:cubicBezTo>
                <a:cubicBezTo>
                  <a:pt x="10302" y="9988"/>
                  <a:pt x="10311" y="9979"/>
                  <a:pt x="10319" y="9971"/>
                </a:cubicBezTo>
                <a:cubicBezTo>
                  <a:pt x="10435" y="9940"/>
                  <a:pt x="10685" y="9964"/>
                  <a:pt x="10616" y="10170"/>
                </a:cubicBezTo>
                <a:cubicBezTo>
                  <a:pt x="10514" y="10475"/>
                  <a:pt x="10144" y="10443"/>
                  <a:pt x="9897" y="10393"/>
                </a:cubicBezTo>
                <a:cubicBezTo>
                  <a:pt x="9880" y="10385"/>
                  <a:pt x="9864" y="10376"/>
                  <a:pt x="9847" y="10368"/>
                </a:cubicBezTo>
              </a:path>
              <a:path w="4417" h="1068">
                <a:moveTo>
                  <a:pt x="10964" y="9500"/>
                </a:moveTo>
                <a:cubicBezTo>
                  <a:pt x="10814" y="9457"/>
                  <a:pt x="10776" y="9680"/>
                  <a:pt x="10740" y="9798"/>
                </a:cubicBezTo>
                <a:cubicBezTo>
                  <a:pt x="10695" y="9947"/>
                  <a:pt x="10646" y="10349"/>
                  <a:pt x="10939" y="10319"/>
                </a:cubicBezTo>
                <a:cubicBezTo>
                  <a:pt x="11149" y="10297"/>
                  <a:pt x="11287" y="9998"/>
                  <a:pt x="11237" y="9823"/>
                </a:cubicBezTo>
                <a:cubicBezTo>
                  <a:pt x="11192" y="9664"/>
                  <a:pt x="11051" y="9520"/>
                  <a:pt x="10889" y="9500"/>
                </a:cubicBezTo>
              </a:path>
              <a:path w="4417" h="1068">
                <a:moveTo>
                  <a:pt x="11658" y="9847"/>
                </a:moveTo>
                <a:cubicBezTo>
                  <a:pt x="11671" y="9964"/>
                  <a:pt x="11701" y="10075"/>
                  <a:pt x="11708" y="10195"/>
                </a:cubicBezTo>
                <a:cubicBezTo>
                  <a:pt x="11690" y="10089"/>
                  <a:pt x="11648" y="9952"/>
                  <a:pt x="11708" y="9847"/>
                </a:cubicBezTo>
                <a:cubicBezTo>
                  <a:pt x="11870" y="9564"/>
                  <a:pt x="12041" y="9848"/>
                  <a:pt x="12105" y="10021"/>
                </a:cubicBezTo>
                <a:cubicBezTo>
                  <a:pt x="12113" y="10062"/>
                  <a:pt x="12121" y="10104"/>
                  <a:pt x="12129" y="10145"/>
                </a:cubicBezTo>
                <a:cubicBezTo>
                  <a:pt x="12129" y="10222"/>
                  <a:pt x="12070" y="10048"/>
                  <a:pt x="12080" y="9971"/>
                </a:cubicBezTo>
                <a:cubicBezTo>
                  <a:pt x="12105" y="9768"/>
                  <a:pt x="12269" y="9693"/>
                  <a:pt x="12427" y="9823"/>
                </a:cubicBezTo>
                <a:cubicBezTo>
                  <a:pt x="12582" y="9951"/>
                  <a:pt x="12512" y="10105"/>
                  <a:pt x="12576" y="10244"/>
                </a:cubicBezTo>
                <a:cubicBezTo>
                  <a:pt x="12584" y="10244"/>
                  <a:pt x="12593" y="10244"/>
                  <a:pt x="12601" y="10244"/>
                </a:cubicBezTo>
              </a:path>
              <a:path w="4417" h="1068">
                <a:moveTo>
                  <a:pt x="12750" y="9773"/>
                </a:moveTo>
                <a:cubicBezTo>
                  <a:pt x="12759" y="9852"/>
                  <a:pt x="12761" y="10104"/>
                  <a:pt x="12824" y="10145"/>
                </a:cubicBezTo>
                <a:cubicBezTo>
                  <a:pt x="12824" y="10137"/>
                  <a:pt x="12824" y="10128"/>
                  <a:pt x="12824" y="10120"/>
                </a:cubicBezTo>
              </a:path>
              <a:path w="4417" h="1068">
                <a:moveTo>
                  <a:pt x="12948" y="9351"/>
                </a:moveTo>
                <a:cubicBezTo>
                  <a:pt x="13017" y="9559"/>
                  <a:pt x="13070" y="9756"/>
                  <a:pt x="13122" y="9971"/>
                </a:cubicBezTo>
                <a:cubicBezTo>
                  <a:pt x="13176" y="10197"/>
                  <a:pt x="13153" y="10170"/>
                  <a:pt x="13246" y="9996"/>
                </a:cubicBezTo>
              </a:path>
              <a:path w="4417" h="1068">
                <a:moveTo>
                  <a:pt x="13370" y="9823"/>
                </a:moveTo>
                <a:cubicBezTo>
                  <a:pt x="13463" y="9817"/>
                  <a:pt x="13550" y="9798"/>
                  <a:pt x="13643" y="9798"/>
                </a:cubicBezTo>
                <a:cubicBezTo>
                  <a:pt x="13580" y="9716"/>
                  <a:pt x="13474" y="9581"/>
                  <a:pt x="13370" y="9699"/>
                </a:cubicBezTo>
                <a:cubicBezTo>
                  <a:pt x="13253" y="9832"/>
                  <a:pt x="13321" y="10091"/>
                  <a:pt x="13494" y="10145"/>
                </a:cubicBezTo>
                <a:cubicBezTo>
                  <a:pt x="13715" y="10213"/>
                  <a:pt x="13840" y="9997"/>
                  <a:pt x="13965" y="9872"/>
                </a:cubicBezTo>
              </a:path>
              <a:path w="4417" h="1068">
                <a:moveTo>
                  <a:pt x="14039" y="9674"/>
                </a:moveTo>
                <a:cubicBezTo>
                  <a:pt x="13930" y="9702"/>
                  <a:pt x="13887" y="9714"/>
                  <a:pt x="13816" y="9748"/>
                </a:cubicBezTo>
                <a:cubicBezTo>
                  <a:pt x="13901" y="9890"/>
                  <a:pt x="14117" y="9826"/>
                  <a:pt x="14238" y="9947"/>
                </a:cubicBezTo>
                <a:cubicBezTo>
                  <a:pt x="14495" y="10204"/>
                  <a:pt x="13712" y="10099"/>
                  <a:pt x="13692" y="10096"/>
                </a:cubicBezTo>
              </a:path>
              <a:path w="4417" h="1068">
                <a:moveTo>
                  <a:pt x="12750" y="9426"/>
                </a:moveTo>
                <a:cubicBezTo>
                  <a:pt x="12742" y="9426"/>
                  <a:pt x="12733" y="9426"/>
                  <a:pt x="12725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7120" y="3867120"/>
            <a:ext cx="312840" cy="339840"/>
          </a:xfrm>
          <a:custGeom>
            <a:avLst/>
            <a:gdLst/>
            <a:ahLst/>
            <a:rect l="l" t="t" r="r" b="b"/>
            <a:pathLst>
              <a:path w="870" h="944">
                <a:moveTo>
                  <a:pt x="11013" y="10815"/>
                </a:moveTo>
                <a:cubicBezTo>
                  <a:pt x="11113" y="10776"/>
                  <a:pt x="11181" y="10753"/>
                  <a:pt x="11286" y="10740"/>
                </a:cubicBezTo>
                <a:cubicBezTo>
                  <a:pt x="11387" y="10981"/>
                  <a:pt x="11166" y="11143"/>
                  <a:pt x="11013" y="11336"/>
                </a:cubicBezTo>
                <a:cubicBezTo>
                  <a:pt x="10922" y="11451"/>
                  <a:pt x="10836" y="11572"/>
                  <a:pt x="10740" y="11683"/>
                </a:cubicBezTo>
                <a:cubicBezTo>
                  <a:pt x="10868" y="11537"/>
                  <a:pt x="11002" y="11424"/>
                  <a:pt x="11212" y="11410"/>
                </a:cubicBezTo>
                <a:cubicBezTo>
                  <a:pt x="11450" y="11394"/>
                  <a:pt x="11388" y="11503"/>
                  <a:pt x="11609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4160" y="3848040"/>
            <a:ext cx="615960" cy="268200"/>
          </a:xfrm>
          <a:custGeom>
            <a:avLst/>
            <a:gdLst/>
            <a:ahLst/>
            <a:rect l="l" t="t" r="r" b="b"/>
            <a:pathLst>
              <a:path w="1712" h="745">
                <a:moveTo>
                  <a:pt x="12204" y="10691"/>
                </a:moveTo>
                <a:cubicBezTo>
                  <a:pt x="12242" y="10881"/>
                  <a:pt x="12310" y="11065"/>
                  <a:pt x="12328" y="11261"/>
                </a:cubicBezTo>
                <a:cubicBezTo>
                  <a:pt x="12328" y="11352"/>
                  <a:pt x="12328" y="11360"/>
                  <a:pt x="12328" y="11410"/>
                </a:cubicBezTo>
                <a:cubicBezTo>
                  <a:pt x="12340" y="11283"/>
                  <a:pt x="12347" y="11143"/>
                  <a:pt x="12427" y="11038"/>
                </a:cubicBezTo>
                <a:cubicBezTo>
                  <a:pt x="12549" y="10878"/>
                  <a:pt x="12701" y="10981"/>
                  <a:pt x="12750" y="11137"/>
                </a:cubicBezTo>
                <a:cubicBezTo>
                  <a:pt x="12774" y="11214"/>
                  <a:pt x="12761" y="11423"/>
                  <a:pt x="12799" y="11385"/>
                </a:cubicBezTo>
              </a:path>
              <a:path w="1712" h="745">
                <a:moveTo>
                  <a:pt x="12998" y="11063"/>
                </a:moveTo>
                <a:cubicBezTo>
                  <a:pt x="13005" y="11159"/>
                  <a:pt x="13021" y="11243"/>
                  <a:pt x="13047" y="11336"/>
                </a:cubicBezTo>
                <a:cubicBezTo>
                  <a:pt x="13027" y="11142"/>
                  <a:pt x="13016" y="10980"/>
                  <a:pt x="13246" y="10914"/>
                </a:cubicBezTo>
                <a:cubicBezTo>
                  <a:pt x="13357" y="10882"/>
                  <a:pt x="13430" y="10924"/>
                  <a:pt x="13494" y="10988"/>
                </a:cubicBezTo>
              </a:path>
              <a:path w="1712" h="745">
                <a:moveTo>
                  <a:pt x="13767" y="10939"/>
                </a:moveTo>
                <a:cubicBezTo>
                  <a:pt x="13647" y="10951"/>
                  <a:pt x="13581" y="10962"/>
                  <a:pt x="13469" y="11013"/>
                </a:cubicBezTo>
                <a:cubicBezTo>
                  <a:pt x="13590" y="11043"/>
                  <a:pt x="13750" y="11060"/>
                  <a:pt x="13866" y="11137"/>
                </a:cubicBezTo>
                <a:cubicBezTo>
                  <a:pt x="13882" y="11162"/>
                  <a:pt x="13899" y="11187"/>
                  <a:pt x="13915" y="11212"/>
                </a:cubicBezTo>
                <a:cubicBezTo>
                  <a:pt x="13848" y="11302"/>
                  <a:pt x="13720" y="11496"/>
                  <a:pt x="13568" y="11435"/>
                </a:cubicBezTo>
                <a:cubicBezTo>
                  <a:pt x="13568" y="11427"/>
                  <a:pt x="13568" y="11418"/>
                  <a:pt x="13568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67200" y="5545080"/>
            <a:ext cx="1293840" cy="1071720"/>
          </a:xfrm>
          <a:custGeom>
            <a:avLst/>
            <a:gdLst/>
            <a:ahLst/>
            <a:rect l="l" t="t" r="r" b="b"/>
            <a:pathLst>
              <a:path w="3597" h="2977">
                <a:moveTo>
                  <a:pt x="13717" y="15949"/>
                </a:moveTo>
                <a:cubicBezTo>
                  <a:pt x="13737" y="15893"/>
                  <a:pt x="13979" y="15875"/>
                  <a:pt x="14039" y="15900"/>
                </a:cubicBezTo>
                <a:cubicBezTo>
                  <a:pt x="14196" y="15964"/>
                  <a:pt x="13972" y="16218"/>
                  <a:pt x="13940" y="16272"/>
                </a:cubicBezTo>
                <a:cubicBezTo>
                  <a:pt x="13924" y="16288"/>
                  <a:pt x="13907" y="16305"/>
                  <a:pt x="13891" y="16321"/>
                </a:cubicBezTo>
                <a:cubicBezTo>
                  <a:pt x="14024" y="16321"/>
                  <a:pt x="14323" y="16278"/>
                  <a:pt x="14263" y="16520"/>
                </a:cubicBezTo>
                <a:cubicBezTo>
                  <a:pt x="14230" y="16655"/>
                  <a:pt x="13732" y="16912"/>
                  <a:pt x="13667" y="16718"/>
                </a:cubicBezTo>
                <a:cubicBezTo>
                  <a:pt x="13684" y="16677"/>
                  <a:pt x="13700" y="16635"/>
                  <a:pt x="13717" y="16594"/>
                </a:cubicBezTo>
              </a:path>
              <a:path w="3597" h="2977">
                <a:moveTo>
                  <a:pt x="14536" y="15949"/>
                </a:moveTo>
                <a:cubicBezTo>
                  <a:pt x="14406" y="16164"/>
                  <a:pt x="14158" y="16533"/>
                  <a:pt x="14585" y="16619"/>
                </a:cubicBezTo>
                <a:cubicBezTo>
                  <a:pt x="14947" y="16692"/>
                  <a:pt x="14885" y="16269"/>
                  <a:pt x="14833" y="16073"/>
                </a:cubicBezTo>
                <a:cubicBezTo>
                  <a:pt x="14776" y="15858"/>
                  <a:pt x="14752" y="15878"/>
                  <a:pt x="14585" y="15900"/>
                </a:cubicBezTo>
              </a:path>
              <a:path w="3597" h="2977">
                <a:moveTo>
                  <a:pt x="15230" y="16197"/>
                </a:moveTo>
                <a:cubicBezTo>
                  <a:pt x="15257" y="16330"/>
                  <a:pt x="15255" y="16457"/>
                  <a:pt x="15255" y="16594"/>
                </a:cubicBezTo>
                <a:cubicBezTo>
                  <a:pt x="15255" y="16416"/>
                  <a:pt x="15239" y="16280"/>
                  <a:pt x="15379" y="16148"/>
                </a:cubicBezTo>
                <a:cubicBezTo>
                  <a:pt x="15607" y="15933"/>
                  <a:pt x="15605" y="16396"/>
                  <a:pt x="15602" y="16495"/>
                </a:cubicBezTo>
                <a:cubicBezTo>
                  <a:pt x="15602" y="16503"/>
                  <a:pt x="15602" y="16512"/>
                  <a:pt x="15602" y="16520"/>
                </a:cubicBezTo>
                <a:cubicBezTo>
                  <a:pt x="15602" y="16384"/>
                  <a:pt x="15621" y="16247"/>
                  <a:pt x="15726" y="16148"/>
                </a:cubicBezTo>
                <a:cubicBezTo>
                  <a:pt x="15759" y="16131"/>
                  <a:pt x="15792" y="16115"/>
                  <a:pt x="15825" y="16098"/>
                </a:cubicBezTo>
                <a:cubicBezTo>
                  <a:pt x="15972" y="16266"/>
                  <a:pt x="16008" y="16431"/>
                  <a:pt x="15974" y="16669"/>
                </a:cubicBezTo>
                <a:cubicBezTo>
                  <a:pt x="15966" y="16685"/>
                  <a:pt x="15957" y="16702"/>
                  <a:pt x="15949" y="16718"/>
                </a:cubicBezTo>
              </a:path>
              <a:path w="3597" h="2977">
                <a:moveTo>
                  <a:pt x="13519" y="16793"/>
                </a:moveTo>
                <a:cubicBezTo>
                  <a:pt x="14005" y="16686"/>
                  <a:pt x="14507" y="16693"/>
                  <a:pt x="15007" y="16718"/>
                </a:cubicBezTo>
                <a:cubicBezTo>
                  <a:pt x="15293" y="16732"/>
                  <a:pt x="15594" y="16748"/>
                  <a:pt x="15875" y="16793"/>
                </a:cubicBezTo>
              </a:path>
              <a:path w="3597" h="2977">
                <a:moveTo>
                  <a:pt x="14114" y="16966"/>
                </a:moveTo>
                <a:cubicBezTo>
                  <a:pt x="14335" y="16893"/>
                  <a:pt x="14309" y="16915"/>
                  <a:pt x="14511" y="17041"/>
                </a:cubicBezTo>
                <a:cubicBezTo>
                  <a:pt x="14486" y="17449"/>
                  <a:pt x="14312" y="17568"/>
                  <a:pt x="13891" y="17661"/>
                </a:cubicBezTo>
                <a:cubicBezTo>
                  <a:pt x="13850" y="17661"/>
                  <a:pt x="13808" y="17661"/>
                  <a:pt x="13767" y="17661"/>
                </a:cubicBezTo>
                <a:cubicBezTo>
                  <a:pt x="13954" y="17474"/>
                  <a:pt x="14135" y="17326"/>
                  <a:pt x="14412" y="17438"/>
                </a:cubicBezTo>
                <a:cubicBezTo>
                  <a:pt x="14505" y="17508"/>
                  <a:pt x="14537" y="17525"/>
                  <a:pt x="14536" y="17611"/>
                </a:cubicBezTo>
              </a:path>
              <a:path w="3597" h="2977">
                <a:moveTo>
                  <a:pt x="14784" y="17016"/>
                </a:moveTo>
                <a:cubicBezTo>
                  <a:pt x="14812" y="17152"/>
                  <a:pt x="14907" y="17404"/>
                  <a:pt x="14858" y="17537"/>
                </a:cubicBezTo>
                <a:cubicBezTo>
                  <a:pt x="14850" y="17529"/>
                  <a:pt x="14841" y="17520"/>
                  <a:pt x="14833" y="17512"/>
                </a:cubicBezTo>
                <a:cubicBezTo>
                  <a:pt x="14858" y="17388"/>
                  <a:pt x="14919" y="17247"/>
                  <a:pt x="15081" y="17264"/>
                </a:cubicBezTo>
                <a:cubicBezTo>
                  <a:pt x="15235" y="17281"/>
                  <a:pt x="15275" y="17471"/>
                  <a:pt x="15304" y="17587"/>
                </a:cubicBezTo>
                <a:cubicBezTo>
                  <a:pt x="15304" y="17595"/>
                  <a:pt x="15304" y="17603"/>
                  <a:pt x="15304" y="17611"/>
                </a:cubicBezTo>
              </a:path>
              <a:path w="3597" h="2977">
                <a:moveTo>
                  <a:pt x="16619" y="16446"/>
                </a:moveTo>
                <a:cubicBezTo>
                  <a:pt x="16716" y="16437"/>
                  <a:pt x="16831" y="16400"/>
                  <a:pt x="16892" y="16446"/>
                </a:cubicBezTo>
              </a:path>
              <a:path w="3597" h="2977">
                <a:moveTo>
                  <a:pt x="16718" y="16619"/>
                </a:moveTo>
                <a:cubicBezTo>
                  <a:pt x="16908" y="16592"/>
                  <a:pt x="16982" y="16582"/>
                  <a:pt x="17115" y="16570"/>
                </a:cubicBezTo>
              </a:path>
              <a:path w="3597" h="2977">
                <a:moveTo>
                  <a:pt x="17115" y="16570"/>
                </a:moveTo>
                <a:lnTo>
                  <a:pt x="17115" y="16570"/>
                </a:lnTo>
              </a:path>
              <a:path w="3597" h="2977">
                <a:moveTo>
                  <a:pt x="14461" y="17859"/>
                </a:moveTo>
                <a:cubicBezTo>
                  <a:pt x="14360" y="17859"/>
                  <a:pt x="14610" y="17890"/>
                  <a:pt x="14709" y="17909"/>
                </a:cubicBezTo>
                <a:cubicBezTo>
                  <a:pt x="14759" y="17919"/>
                  <a:pt x="14914" y="17989"/>
                  <a:pt x="14932" y="17934"/>
                </a:cubicBezTo>
              </a:path>
              <a:path w="3597" h="2977">
                <a:moveTo>
                  <a:pt x="14684" y="17636"/>
                </a:moveTo>
                <a:cubicBezTo>
                  <a:pt x="14635" y="17636"/>
                  <a:pt x="14627" y="17661"/>
                  <a:pt x="14660" y="17735"/>
                </a:cubicBezTo>
              </a:path>
              <a:path w="3597" h="2977">
                <a:moveTo>
                  <a:pt x="14560" y="18256"/>
                </a:moveTo>
                <a:cubicBezTo>
                  <a:pt x="14585" y="18256"/>
                  <a:pt x="14593" y="18256"/>
                  <a:pt x="14585" y="18281"/>
                </a:cubicBezTo>
              </a:path>
              <a:path w="3597" h="2977">
                <a:moveTo>
                  <a:pt x="15280" y="17884"/>
                </a:moveTo>
                <a:cubicBezTo>
                  <a:pt x="15298" y="17793"/>
                  <a:pt x="15341" y="17790"/>
                  <a:pt x="15429" y="17785"/>
                </a:cubicBezTo>
                <a:cubicBezTo>
                  <a:pt x="15445" y="17785"/>
                  <a:pt x="15462" y="17785"/>
                  <a:pt x="15478" y="17785"/>
                </a:cubicBezTo>
                <a:cubicBezTo>
                  <a:pt x="15514" y="17928"/>
                  <a:pt x="15432" y="18074"/>
                  <a:pt x="15354" y="18207"/>
                </a:cubicBezTo>
                <a:cubicBezTo>
                  <a:pt x="15310" y="18282"/>
                  <a:pt x="15290" y="18299"/>
                  <a:pt x="15280" y="18380"/>
                </a:cubicBezTo>
                <a:cubicBezTo>
                  <a:pt x="15298" y="18306"/>
                  <a:pt x="15360" y="18246"/>
                  <a:pt x="15429" y="18207"/>
                </a:cubicBezTo>
                <a:cubicBezTo>
                  <a:pt x="15474" y="18182"/>
                  <a:pt x="15536" y="18274"/>
                  <a:pt x="15577" y="18281"/>
                </a:cubicBezTo>
                <a:cubicBezTo>
                  <a:pt x="15687" y="18301"/>
                  <a:pt x="15717" y="18229"/>
                  <a:pt x="15776" y="18157"/>
                </a:cubicBezTo>
              </a:path>
              <a:path w="3597" h="2977">
                <a:moveTo>
                  <a:pt x="15205" y="15776"/>
                </a:moveTo>
                <a:cubicBezTo>
                  <a:pt x="15161" y="15709"/>
                  <a:pt x="15468" y="15673"/>
                  <a:pt x="15528" y="15652"/>
                </a:cubicBezTo>
                <a:cubicBezTo>
                  <a:pt x="15568" y="15632"/>
                  <a:pt x="15574" y="15623"/>
                  <a:pt x="15602" y="15627"/>
                </a:cubicBezTo>
              </a:path>
              <a:path w="3597" h="2977">
                <a:moveTo>
                  <a:pt x="15329" y="15503"/>
                </a:moveTo>
                <a:lnTo>
                  <a:pt x="15329" y="15503"/>
                </a:lnTo>
              </a:path>
              <a:path w="3597" h="2977">
                <a:moveTo>
                  <a:pt x="15478" y="15925"/>
                </a:moveTo>
                <a:lnTo>
                  <a:pt x="15478" y="15925"/>
                </a:lnTo>
              </a:path>
              <a:path w="3597" h="2977">
                <a:moveTo>
                  <a:pt x="15949" y="15577"/>
                </a:moveTo>
                <a:cubicBezTo>
                  <a:pt x="15986" y="15497"/>
                  <a:pt x="16010" y="15467"/>
                  <a:pt x="16073" y="15404"/>
                </a:cubicBezTo>
                <a:cubicBezTo>
                  <a:pt x="16192" y="15434"/>
                  <a:pt x="16171" y="15582"/>
                  <a:pt x="16148" y="15677"/>
                </a:cubicBezTo>
                <a:cubicBezTo>
                  <a:pt x="16126" y="15765"/>
                  <a:pt x="16083" y="15864"/>
                  <a:pt x="16049" y="15949"/>
                </a:cubicBezTo>
                <a:cubicBezTo>
                  <a:pt x="16082" y="15916"/>
                  <a:pt x="16161" y="15797"/>
                  <a:pt x="16222" y="15825"/>
                </a:cubicBezTo>
                <a:cubicBezTo>
                  <a:pt x="16328" y="15873"/>
                  <a:pt x="16361" y="15910"/>
                  <a:pt x="16446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4080" y="5384880"/>
            <a:ext cx="1170000" cy="1108080"/>
          </a:xfrm>
          <a:custGeom>
            <a:avLst/>
            <a:gdLst/>
            <a:ahLst/>
            <a:rect l="l" t="t" r="r" b="b"/>
            <a:pathLst>
              <a:path w="3250" h="3077">
                <a:moveTo>
                  <a:pt x="18430" y="16669"/>
                </a:moveTo>
                <a:cubicBezTo>
                  <a:pt x="18876" y="16625"/>
                  <a:pt x="19321" y="16573"/>
                  <a:pt x="19769" y="16545"/>
                </a:cubicBezTo>
                <a:cubicBezTo>
                  <a:pt x="20282" y="16513"/>
                  <a:pt x="20796" y="16505"/>
                  <a:pt x="21307" y="16545"/>
                </a:cubicBezTo>
                <a:cubicBezTo>
                  <a:pt x="21315" y="16545"/>
                  <a:pt x="21324" y="16545"/>
                  <a:pt x="21332" y="16545"/>
                </a:cubicBezTo>
              </a:path>
              <a:path w="3250" h="3077">
                <a:moveTo>
                  <a:pt x="19521" y="16768"/>
                </a:moveTo>
                <a:cubicBezTo>
                  <a:pt x="19539" y="16948"/>
                  <a:pt x="19526" y="17134"/>
                  <a:pt x="19546" y="17314"/>
                </a:cubicBezTo>
                <a:cubicBezTo>
                  <a:pt x="19565" y="17371"/>
                  <a:pt x="19574" y="17378"/>
                  <a:pt x="19571" y="17413"/>
                </a:cubicBezTo>
              </a:path>
              <a:path w="3250" h="3077">
                <a:moveTo>
                  <a:pt x="19993" y="16743"/>
                </a:moveTo>
                <a:cubicBezTo>
                  <a:pt x="19985" y="16951"/>
                  <a:pt x="19968" y="17155"/>
                  <a:pt x="19968" y="17363"/>
                </a:cubicBezTo>
                <a:cubicBezTo>
                  <a:pt x="19968" y="17388"/>
                  <a:pt x="19968" y="17396"/>
                  <a:pt x="19968" y="17413"/>
                </a:cubicBezTo>
                <a:cubicBezTo>
                  <a:pt x="19978" y="17352"/>
                  <a:pt x="20000" y="17213"/>
                  <a:pt x="20042" y="17165"/>
                </a:cubicBezTo>
                <a:cubicBezTo>
                  <a:pt x="20115" y="17081"/>
                  <a:pt x="20175" y="17083"/>
                  <a:pt x="20265" y="17090"/>
                </a:cubicBezTo>
                <a:cubicBezTo>
                  <a:pt x="20311" y="17205"/>
                  <a:pt x="20333" y="17314"/>
                  <a:pt x="20340" y="17438"/>
                </a:cubicBezTo>
                <a:cubicBezTo>
                  <a:pt x="20340" y="17446"/>
                  <a:pt x="20340" y="17454"/>
                  <a:pt x="20340" y="17462"/>
                </a:cubicBezTo>
              </a:path>
              <a:path w="3250" h="3077">
                <a:moveTo>
                  <a:pt x="19199" y="15577"/>
                </a:moveTo>
                <a:cubicBezTo>
                  <a:pt x="19207" y="15569"/>
                  <a:pt x="19216" y="15561"/>
                  <a:pt x="19224" y="15553"/>
                </a:cubicBezTo>
                <a:cubicBezTo>
                  <a:pt x="19381" y="15605"/>
                  <a:pt x="19256" y="15859"/>
                  <a:pt x="19248" y="16024"/>
                </a:cubicBezTo>
                <a:cubicBezTo>
                  <a:pt x="19248" y="16030"/>
                  <a:pt x="19174" y="16469"/>
                  <a:pt x="19248" y="16495"/>
                </a:cubicBezTo>
              </a:path>
              <a:path w="3250" h="3077">
                <a:moveTo>
                  <a:pt x="19844" y="15553"/>
                </a:moveTo>
                <a:cubicBezTo>
                  <a:pt x="19665" y="15616"/>
                  <a:pt x="19666" y="15573"/>
                  <a:pt x="19621" y="15776"/>
                </a:cubicBezTo>
                <a:cubicBezTo>
                  <a:pt x="19600" y="15900"/>
                  <a:pt x="19592" y="15924"/>
                  <a:pt x="19596" y="15999"/>
                </a:cubicBezTo>
                <a:cubicBezTo>
                  <a:pt x="19736" y="15933"/>
                  <a:pt x="19964" y="15789"/>
                  <a:pt x="20067" y="15999"/>
                </a:cubicBezTo>
                <a:cubicBezTo>
                  <a:pt x="20173" y="16216"/>
                  <a:pt x="19941" y="16467"/>
                  <a:pt x="19720" y="16421"/>
                </a:cubicBezTo>
                <a:cubicBezTo>
                  <a:pt x="19609" y="16354"/>
                  <a:pt x="19568" y="16344"/>
                  <a:pt x="19596" y="16247"/>
                </a:cubicBezTo>
              </a:path>
              <a:path w="3250" h="3077">
                <a:moveTo>
                  <a:pt x="20563" y="16024"/>
                </a:moveTo>
                <a:cubicBezTo>
                  <a:pt x="20563" y="16157"/>
                  <a:pt x="20541" y="16287"/>
                  <a:pt x="20538" y="16421"/>
                </a:cubicBezTo>
                <a:cubicBezTo>
                  <a:pt x="20538" y="16446"/>
                  <a:pt x="20538" y="16470"/>
                  <a:pt x="20538" y="16495"/>
                </a:cubicBezTo>
                <a:cubicBezTo>
                  <a:pt x="20538" y="16374"/>
                  <a:pt x="20514" y="16237"/>
                  <a:pt x="20563" y="16123"/>
                </a:cubicBezTo>
                <a:cubicBezTo>
                  <a:pt x="20651" y="15919"/>
                  <a:pt x="20757" y="16076"/>
                  <a:pt x="20811" y="16197"/>
                </a:cubicBezTo>
                <a:cubicBezTo>
                  <a:pt x="20852" y="16320"/>
                  <a:pt x="20869" y="16342"/>
                  <a:pt x="20861" y="16421"/>
                </a:cubicBezTo>
                <a:cubicBezTo>
                  <a:pt x="20861" y="16290"/>
                  <a:pt x="20848" y="16179"/>
                  <a:pt x="20861" y="16049"/>
                </a:cubicBezTo>
                <a:cubicBezTo>
                  <a:pt x="20965" y="16004"/>
                  <a:pt x="21013" y="16032"/>
                  <a:pt x="21059" y="16148"/>
                </a:cubicBezTo>
                <a:cubicBezTo>
                  <a:pt x="21109" y="16274"/>
                  <a:pt x="21108" y="16628"/>
                  <a:pt x="21134" y="16495"/>
                </a:cubicBezTo>
                <a:cubicBezTo>
                  <a:pt x="21142" y="16454"/>
                  <a:pt x="21150" y="16412"/>
                  <a:pt x="21158" y="16371"/>
                </a:cubicBezTo>
              </a:path>
              <a:path w="3250" h="3077">
                <a:moveTo>
                  <a:pt x="21282" y="16073"/>
                </a:moveTo>
                <a:cubicBezTo>
                  <a:pt x="21290" y="16123"/>
                  <a:pt x="21307" y="16385"/>
                  <a:pt x="21307" y="16346"/>
                </a:cubicBezTo>
              </a:path>
              <a:path w="3250" h="3077">
                <a:moveTo>
                  <a:pt x="21183" y="15751"/>
                </a:moveTo>
                <a:cubicBezTo>
                  <a:pt x="21183" y="15786"/>
                  <a:pt x="21188" y="15803"/>
                  <a:pt x="21208" y="15825"/>
                </a:cubicBezTo>
              </a:path>
              <a:path w="3250" h="3077">
                <a:moveTo>
                  <a:pt x="21456" y="15081"/>
                </a:moveTo>
                <a:cubicBezTo>
                  <a:pt x="21242" y="15074"/>
                  <a:pt x="20989" y="15068"/>
                  <a:pt x="20762" y="15056"/>
                </a:cubicBezTo>
                <a:cubicBezTo>
                  <a:pt x="20308" y="15031"/>
                  <a:pt x="19850" y="15013"/>
                  <a:pt x="19397" y="14982"/>
                </a:cubicBezTo>
                <a:cubicBezTo>
                  <a:pt x="19243" y="14971"/>
                  <a:pt x="19101" y="14933"/>
                  <a:pt x="18951" y="14982"/>
                </a:cubicBezTo>
                <a:cubicBezTo>
                  <a:pt x="18864" y="15011"/>
                  <a:pt x="18771" y="15050"/>
                  <a:pt x="18678" y="15081"/>
                </a:cubicBezTo>
                <a:cubicBezTo>
                  <a:pt x="18610" y="15103"/>
                  <a:pt x="18545" y="15115"/>
                  <a:pt x="18479" y="15131"/>
                </a:cubicBezTo>
                <a:cubicBezTo>
                  <a:pt x="18494" y="15328"/>
                  <a:pt x="18550" y="15563"/>
                  <a:pt x="18604" y="15776"/>
                </a:cubicBezTo>
                <a:cubicBezTo>
                  <a:pt x="18702" y="16162"/>
                  <a:pt x="18781" y="16567"/>
                  <a:pt x="18802" y="16966"/>
                </a:cubicBezTo>
                <a:cubicBezTo>
                  <a:pt x="18814" y="17198"/>
                  <a:pt x="18790" y="17432"/>
                  <a:pt x="18827" y="17661"/>
                </a:cubicBezTo>
                <a:cubicBezTo>
                  <a:pt x="18845" y="17773"/>
                  <a:pt x="18849" y="17869"/>
                  <a:pt x="18852" y="17983"/>
                </a:cubicBezTo>
                <a:cubicBezTo>
                  <a:pt x="18852" y="18008"/>
                  <a:pt x="18852" y="18016"/>
                  <a:pt x="18852" y="18033"/>
                </a:cubicBezTo>
                <a:cubicBezTo>
                  <a:pt x="19068" y="17961"/>
                  <a:pt x="19287" y="17909"/>
                  <a:pt x="19521" y="17884"/>
                </a:cubicBezTo>
                <a:cubicBezTo>
                  <a:pt x="19933" y="17840"/>
                  <a:pt x="20348" y="17835"/>
                  <a:pt x="20762" y="17835"/>
                </a:cubicBezTo>
                <a:cubicBezTo>
                  <a:pt x="20915" y="17835"/>
                  <a:pt x="21060" y="17843"/>
                  <a:pt x="21208" y="17835"/>
                </a:cubicBezTo>
                <a:cubicBezTo>
                  <a:pt x="21272" y="17832"/>
                  <a:pt x="21281" y="17846"/>
                  <a:pt x="21307" y="17810"/>
                </a:cubicBezTo>
                <a:cubicBezTo>
                  <a:pt x="21350" y="17751"/>
                  <a:pt x="21387" y="17506"/>
                  <a:pt x="21406" y="17438"/>
                </a:cubicBezTo>
                <a:cubicBezTo>
                  <a:pt x="21474" y="17188"/>
                  <a:pt x="21514" y="16925"/>
                  <a:pt x="21555" y="16669"/>
                </a:cubicBezTo>
                <a:cubicBezTo>
                  <a:pt x="21587" y="16466"/>
                  <a:pt x="21605" y="16278"/>
                  <a:pt x="21605" y="16073"/>
                </a:cubicBezTo>
                <a:cubicBezTo>
                  <a:pt x="21605" y="15929"/>
                  <a:pt x="21610" y="15792"/>
                  <a:pt x="21630" y="15652"/>
                </a:cubicBezTo>
                <a:cubicBezTo>
                  <a:pt x="21646" y="15540"/>
                  <a:pt x="21683" y="15418"/>
                  <a:pt x="21679" y="15304"/>
                </a:cubicBezTo>
                <a:cubicBezTo>
                  <a:pt x="21678" y="15280"/>
                  <a:pt x="21662" y="15082"/>
                  <a:pt x="21654" y="15081"/>
                </a:cubicBezTo>
                <a:cubicBezTo>
                  <a:pt x="21547" y="15063"/>
                  <a:pt x="21406" y="15165"/>
                  <a:pt x="21307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16800" y="3259080"/>
            <a:ext cx="1598400" cy="63720"/>
          </a:xfrm>
          <a:custGeom>
            <a:avLst/>
            <a:gdLst/>
            <a:ahLst/>
            <a:rect l="l" t="t" r="r" b="b"/>
            <a:pathLst>
              <a:path w="4441" h="174">
                <a:moveTo>
                  <a:pt x="18380" y="9178"/>
                </a:moveTo>
                <a:cubicBezTo>
                  <a:pt x="18428" y="9164"/>
                  <a:pt x="18535" y="9120"/>
                  <a:pt x="18628" y="9128"/>
                </a:cubicBezTo>
                <a:cubicBezTo>
                  <a:pt x="18815" y="9143"/>
                  <a:pt x="19014" y="9151"/>
                  <a:pt x="19199" y="9178"/>
                </a:cubicBezTo>
                <a:cubicBezTo>
                  <a:pt x="19366" y="9203"/>
                  <a:pt x="19527" y="9189"/>
                  <a:pt x="19695" y="9203"/>
                </a:cubicBezTo>
                <a:cubicBezTo>
                  <a:pt x="19920" y="9222"/>
                  <a:pt x="20138" y="9227"/>
                  <a:pt x="20365" y="9227"/>
                </a:cubicBezTo>
                <a:cubicBezTo>
                  <a:pt x="20643" y="9227"/>
                  <a:pt x="20932" y="9188"/>
                  <a:pt x="21208" y="9153"/>
                </a:cubicBezTo>
                <a:cubicBezTo>
                  <a:pt x="21459" y="9121"/>
                  <a:pt x="21701" y="9099"/>
                  <a:pt x="21952" y="9079"/>
                </a:cubicBezTo>
                <a:cubicBezTo>
                  <a:pt x="22177" y="9061"/>
                  <a:pt x="22396" y="9054"/>
                  <a:pt x="22622" y="9054"/>
                </a:cubicBezTo>
                <a:cubicBezTo>
                  <a:pt x="22688" y="9054"/>
                  <a:pt x="22754" y="9054"/>
                  <a:pt x="22820" y="90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37000" y="3741840"/>
            <a:ext cx="1589040" cy="27000"/>
          </a:xfrm>
          <a:custGeom>
            <a:avLst/>
            <a:gdLst/>
            <a:ahLst/>
            <a:rect l="l" t="t" r="r" b="b"/>
            <a:pathLst>
              <a:path w="4416" h="76">
                <a:moveTo>
                  <a:pt x="9823" y="10468"/>
                </a:moveTo>
                <a:cubicBezTo>
                  <a:pt x="10098" y="10468"/>
                  <a:pt x="10367" y="10469"/>
                  <a:pt x="10641" y="10443"/>
                </a:cubicBezTo>
                <a:cubicBezTo>
                  <a:pt x="11061" y="10403"/>
                  <a:pt x="11485" y="10396"/>
                  <a:pt x="11906" y="10393"/>
                </a:cubicBezTo>
                <a:cubicBezTo>
                  <a:pt x="12312" y="10390"/>
                  <a:pt x="12715" y="10418"/>
                  <a:pt x="13122" y="10418"/>
                </a:cubicBezTo>
                <a:cubicBezTo>
                  <a:pt x="13464" y="10418"/>
                  <a:pt x="13800" y="10421"/>
                  <a:pt x="14139" y="10393"/>
                </a:cubicBezTo>
                <a:cubicBezTo>
                  <a:pt x="14197" y="10393"/>
                  <a:pt x="14205" y="10393"/>
                  <a:pt x="14238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3800" y="5510160"/>
            <a:ext cx="2884320" cy="88920"/>
          </a:xfrm>
          <a:custGeom>
            <a:avLst/>
            <a:gdLst/>
            <a:ahLst/>
            <a:rect l="l" t="t" r="r" b="b"/>
            <a:pathLst>
              <a:path w="8013" h="250">
                <a:moveTo>
                  <a:pt x="8731" y="15304"/>
                </a:moveTo>
                <a:cubicBezTo>
                  <a:pt x="8775" y="15321"/>
                  <a:pt x="8759" y="15348"/>
                  <a:pt x="8806" y="15354"/>
                </a:cubicBezTo>
                <a:cubicBezTo>
                  <a:pt x="9008" y="15382"/>
                  <a:pt x="9222" y="15356"/>
                  <a:pt x="9426" y="15379"/>
                </a:cubicBezTo>
                <a:cubicBezTo>
                  <a:pt x="9616" y="15400"/>
                  <a:pt x="9807" y="15425"/>
                  <a:pt x="9996" y="15453"/>
                </a:cubicBezTo>
                <a:cubicBezTo>
                  <a:pt x="10181" y="15481"/>
                  <a:pt x="10358" y="15506"/>
                  <a:pt x="10542" y="15528"/>
                </a:cubicBezTo>
                <a:cubicBezTo>
                  <a:pt x="10752" y="15553"/>
                  <a:pt x="10974" y="15572"/>
                  <a:pt x="11187" y="15553"/>
                </a:cubicBezTo>
                <a:cubicBezTo>
                  <a:pt x="11378" y="15536"/>
                  <a:pt x="11565" y="15507"/>
                  <a:pt x="11757" y="15503"/>
                </a:cubicBezTo>
                <a:cubicBezTo>
                  <a:pt x="11941" y="15499"/>
                  <a:pt x="12120" y="15482"/>
                  <a:pt x="12303" y="15478"/>
                </a:cubicBezTo>
                <a:cubicBezTo>
                  <a:pt x="13214" y="15458"/>
                  <a:pt x="14124" y="15466"/>
                  <a:pt x="15032" y="15429"/>
                </a:cubicBezTo>
                <a:cubicBezTo>
                  <a:pt x="15273" y="15419"/>
                  <a:pt x="15510" y="15404"/>
                  <a:pt x="15751" y="15404"/>
                </a:cubicBezTo>
                <a:cubicBezTo>
                  <a:pt x="16073" y="15404"/>
                  <a:pt x="16396" y="15404"/>
                  <a:pt x="1671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write a unit rate, the denominator must be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you have to divide by to get the denominator to be 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5116680" y="2062080"/>
            <a:ext cx="2857320" cy="73080"/>
          </a:xfrm>
          <a:custGeom>
            <a:avLst/>
            <a:gdLst/>
            <a:ahLst/>
            <a:rect l="l" t="t" r="r" b="b"/>
            <a:pathLst>
              <a:path w="7939" h="199">
                <a:moveTo>
                  <a:pt x="14213" y="5928"/>
                </a:moveTo>
                <a:cubicBezTo>
                  <a:pt x="14228" y="5924"/>
                  <a:pt x="14351" y="5885"/>
                  <a:pt x="14387" y="5879"/>
                </a:cubicBezTo>
                <a:cubicBezTo>
                  <a:pt x="14515" y="5857"/>
                  <a:pt x="14628" y="5856"/>
                  <a:pt x="14759" y="5854"/>
                </a:cubicBezTo>
                <a:cubicBezTo>
                  <a:pt x="14861" y="5852"/>
                  <a:pt x="14959" y="5834"/>
                  <a:pt x="15056" y="5829"/>
                </a:cubicBezTo>
                <a:cubicBezTo>
                  <a:pt x="15262" y="5817"/>
                  <a:pt x="15472" y="5808"/>
                  <a:pt x="15677" y="5804"/>
                </a:cubicBezTo>
                <a:cubicBezTo>
                  <a:pt x="15983" y="5798"/>
                  <a:pt x="16289" y="5808"/>
                  <a:pt x="16594" y="5779"/>
                </a:cubicBezTo>
                <a:cubicBezTo>
                  <a:pt x="16790" y="5760"/>
                  <a:pt x="16967" y="5730"/>
                  <a:pt x="17165" y="5730"/>
                </a:cubicBezTo>
                <a:cubicBezTo>
                  <a:pt x="17334" y="5730"/>
                  <a:pt x="17495" y="5744"/>
                  <a:pt x="17661" y="5755"/>
                </a:cubicBezTo>
                <a:cubicBezTo>
                  <a:pt x="17976" y="5776"/>
                  <a:pt x="18292" y="5738"/>
                  <a:pt x="18604" y="5779"/>
                </a:cubicBezTo>
                <a:cubicBezTo>
                  <a:pt x="18721" y="5794"/>
                  <a:pt x="18831" y="5831"/>
                  <a:pt x="18951" y="5829"/>
                </a:cubicBezTo>
                <a:cubicBezTo>
                  <a:pt x="19149" y="5826"/>
                  <a:pt x="19372" y="5796"/>
                  <a:pt x="19571" y="5779"/>
                </a:cubicBezTo>
                <a:cubicBezTo>
                  <a:pt x="19847" y="5755"/>
                  <a:pt x="20112" y="5793"/>
                  <a:pt x="20389" y="5804"/>
                </a:cubicBezTo>
                <a:cubicBezTo>
                  <a:pt x="20621" y="5813"/>
                  <a:pt x="20853" y="5825"/>
                  <a:pt x="21084" y="5829"/>
                </a:cubicBezTo>
                <a:cubicBezTo>
                  <a:pt x="21301" y="5832"/>
                  <a:pt x="21514" y="5841"/>
                  <a:pt x="21729" y="5854"/>
                </a:cubicBezTo>
                <a:cubicBezTo>
                  <a:pt x="21863" y="5862"/>
                  <a:pt x="21992" y="5874"/>
                  <a:pt x="22126" y="5879"/>
                </a:cubicBezTo>
                <a:cubicBezTo>
                  <a:pt x="22134" y="5879"/>
                  <a:pt x="22143" y="5879"/>
                  <a:pt x="22151" y="58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81160" y="4857840"/>
            <a:ext cx="1571760" cy="615960"/>
          </a:xfrm>
          <a:custGeom>
            <a:avLst/>
            <a:gdLst/>
            <a:ahLst/>
            <a:rect l="l" t="t" r="r" b="b"/>
            <a:pathLst>
              <a:path w="4367" h="1712">
                <a:moveTo>
                  <a:pt x="5854" y="13717"/>
                </a:moveTo>
                <a:cubicBezTo>
                  <a:pt x="5877" y="13694"/>
                  <a:pt x="5885" y="13690"/>
                  <a:pt x="5879" y="13667"/>
                </a:cubicBezTo>
                <a:cubicBezTo>
                  <a:pt x="5854" y="13912"/>
                  <a:pt x="5835" y="14165"/>
                  <a:pt x="5804" y="14412"/>
                </a:cubicBezTo>
                <a:cubicBezTo>
                  <a:pt x="5786" y="14503"/>
                  <a:pt x="5777" y="14510"/>
                  <a:pt x="5779" y="14560"/>
                </a:cubicBezTo>
              </a:path>
              <a:path w="4367" h="1712">
                <a:moveTo>
                  <a:pt x="6449" y="13692"/>
                </a:moveTo>
                <a:cubicBezTo>
                  <a:pt x="6449" y="13854"/>
                  <a:pt x="6432" y="14018"/>
                  <a:pt x="6350" y="14163"/>
                </a:cubicBezTo>
                <a:cubicBezTo>
                  <a:pt x="6342" y="14163"/>
                  <a:pt x="6333" y="14163"/>
                  <a:pt x="6325" y="14163"/>
                </a:cubicBezTo>
                <a:cubicBezTo>
                  <a:pt x="6450" y="14141"/>
                  <a:pt x="6565" y="14097"/>
                  <a:pt x="6697" y="14089"/>
                </a:cubicBezTo>
                <a:cubicBezTo>
                  <a:pt x="6725" y="14089"/>
                  <a:pt x="6736" y="14087"/>
                  <a:pt x="6747" y="14064"/>
                </a:cubicBezTo>
              </a:path>
              <a:path w="4367" h="1712">
                <a:moveTo>
                  <a:pt x="6821" y="13494"/>
                </a:moveTo>
                <a:cubicBezTo>
                  <a:pt x="6854" y="13807"/>
                  <a:pt x="6846" y="14120"/>
                  <a:pt x="6846" y="14436"/>
                </a:cubicBezTo>
                <a:cubicBezTo>
                  <a:pt x="6846" y="14500"/>
                  <a:pt x="6827" y="14567"/>
                  <a:pt x="6871" y="14362"/>
                </a:cubicBezTo>
              </a:path>
              <a:path w="4367" h="1712">
                <a:moveTo>
                  <a:pt x="7689" y="13618"/>
                </a:moveTo>
                <a:cubicBezTo>
                  <a:pt x="7725" y="13891"/>
                  <a:pt x="7760" y="14163"/>
                  <a:pt x="7789" y="14436"/>
                </a:cubicBezTo>
                <a:cubicBezTo>
                  <a:pt x="7789" y="14707"/>
                  <a:pt x="7805" y="14243"/>
                  <a:pt x="7838" y="14188"/>
                </a:cubicBezTo>
                <a:cubicBezTo>
                  <a:pt x="7879" y="14147"/>
                  <a:pt x="7921" y="14105"/>
                  <a:pt x="7962" y="14064"/>
                </a:cubicBezTo>
                <a:cubicBezTo>
                  <a:pt x="8162" y="14092"/>
                  <a:pt x="8377" y="14226"/>
                  <a:pt x="8210" y="14486"/>
                </a:cubicBezTo>
                <a:cubicBezTo>
                  <a:pt x="8126" y="14617"/>
                  <a:pt x="7961" y="14570"/>
                  <a:pt x="7913" y="14486"/>
                </a:cubicBezTo>
              </a:path>
              <a:path w="4367" h="1712">
                <a:moveTo>
                  <a:pt x="8607" y="14089"/>
                </a:moveTo>
                <a:cubicBezTo>
                  <a:pt x="8403" y="14255"/>
                  <a:pt x="8376" y="14357"/>
                  <a:pt x="8434" y="14610"/>
                </a:cubicBezTo>
                <a:cubicBezTo>
                  <a:pt x="8677" y="14544"/>
                  <a:pt x="8899" y="14433"/>
                  <a:pt x="8706" y="14139"/>
                </a:cubicBezTo>
                <a:cubicBezTo>
                  <a:pt x="8627" y="14079"/>
                  <a:pt x="8619" y="14054"/>
                  <a:pt x="8558" y="14064"/>
                </a:cubicBezTo>
              </a:path>
              <a:path w="4367" h="1712">
                <a:moveTo>
                  <a:pt x="9004" y="13990"/>
                </a:moveTo>
                <a:cubicBezTo>
                  <a:pt x="8914" y="14171"/>
                  <a:pt x="8852" y="14317"/>
                  <a:pt x="8806" y="14511"/>
                </a:cubicBezTo>
                <a:cubicBezTo>
                  <a:pt x="8920" y="14558"/>
                  <a:pt x="9295" y="14575"/>
                  <a:pt x="9277" y="14312"/>
                </a:cubicBezTo>
                <a:cubicBezTo>
                  <a:pt x="9195" y="14174"/>
                  <a:pt x="9157" y="14122"/>
                  <a:pt x="9054" y="14064"/>
                </a:cubicBezTo>
              </a:path>
              <a:path w="4367" h="1712">
                <a:moveTo>
                  <a:pt x="9376" y="13841"/>
                </a:moveTo>
                <a:cubicBezTo>
                  <a:pt x="9385" y="13974"/>
                  <a:pt x="9401" y="14408"/>
                  <a:pt x="9401" y="14461"/>
                </a:cubicBezTo>
              </a:path>
              <a:path w="4367" h="1712">
                <a:moveTo>
                  <a:pt x="9723" y="13767"/>
                </a:moveTo>
                <a:cubicBezTo>
                  <a:pt x="9618" y="13911"/>
                  <a:pt x="9359" y="14171"/>
                  <a:pt x="9525" y="14362"/>
                </a:cubicBezTo>
                <a:cubicBezTo>
                  <a:pt x="9614" y="14392"/>
                  <a:pt x="9655" y="14397"/>
                  <a:pt x="9723" y="14362"/>
                </a:cubicBezTo>
              </a:path>
              <a:path w="4367" h="1712">
                <a:moveTo>
                  <a:pt x="10120" y="13915"/>
                </a:moveTo>
                <a:cubicBezTo>
                  <a:pt x="9996" y="13965"/>
                  <a:pt x="9982" y="13969"/>
                  <a:pt x="9922" y="14089"/>
                </a:cubicBezTo>
                <a:cubicBezTo>
                  <a:pt x="10076" y="14216"/>
                  <a:pt x="10289" y="14346"/>
                  <a:pt x="10021" y="14511"/>
                </a:cubicBezTo>
                <a:cubicBezTo>
                  <a:pt x="9825" y="14584"/>
                  <a:pt x="9761" y="14609"/>
                  <a:pt x="9624" y="14536"/>
                </a:cubicBezTo>
              </a:path>
              <a:path w="4367" h="1712">
                <a:moveTo>
                  <a:pt x="6176" y="15131"/>
                </a:moveTo>
                <a:cubicBezTo>
                  <a:pt x="6142" y="15117"/>
                  <a:pt x="6043" y="15072"/>
                  <a:pt x="5978" y="15056"/>
                </a:cubicBezTo>
                <a:cubicBezTo>
                  <a:pt x="5945" y="15048"/>
                  <a:pt x="5912" y="15040"/>
                  <a:pt x="5879" y="15032"/>
                </a:cubicBezTo>
                <a:cubicBezTo>
                  <a:pt x="6060" y="15032"/>
                  <a:pt x="6448" y="15032"/>
                  <a:pt x="6672" y="15032"/>
                </a:cubicBezTo>
                <a:cubicBezTo>
                  <a:pt x="7181" y="15032"/>
                  <a:pt x="7682" y="15059"/>
                  <a:pt x="8186" y="15131"/>
                </a:cubicBezTo>
                <a:cubicBezTo>
                  <a:pt x="8547" y="15182"/>
                  <a:pt x="8910" y="15233"/>
                  <a:pt x="9277" y="15205"/>
                </a:cubicBezTo>
                <a:cubicBezTo>
                  <a:pt x="9400" y="15195"/>
                  <a:pt x="9552" y="15147"/>
                  <a:pt x="9674" y="15156"/>
                </a:cubicBezTo>
                <a:cubicBezTo>
                  <a:pt x="9699" y="15156"/>
                  <a:pt x="9707" y="15156"/>
                  <a:pt x="9699" y="151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5960" y="3894120"/>
            <a:ext cx="3821040" cy="1419120"/>
          </a:xfrm>
          <a:custGeom>
            <a:avLst/>
            <a:gdLst/>
            <a:ahLst/>
            <a:rect l="l" t="t" r="r" b="b"/>
            <a:pathLst>
              <a:path w="10618" h="3945">
                <a:moveTo>
                  <a:pt x="14709" y="13990"/>
                </a:moveTo>
                <a:cubicBezTo>
                  <a:pt x="14740" y="13912"/>
                  <a:pt x="14828" y="13832"/>
                  <a:pt x="14908" y="13791"/>
                </a:cubicBezTo>
                <a:cubicBezTo>
                  <a:pt x="14933" y="13783"/>
                  <a:pt x="14957" y="13775"/>
                  <a:pt x="14982" y="13767"/>
                </a:cubicBezTo>
                <a:cubicBezTo>
                  <a:pt x="15140" y="13805"/>
                  <a:pt x="15002" y="14070"/>
                  <a:pt x="14982" y="14139"/>
                </a:cubicBezTo>
                <a:cubicBezTo>
                  <a:pt x="14932" y="14306"/>
                  <a:pt x="14835" y="14454"/>
                  <a:pt x="14784" y="14610"/>
                </a:cubicBezTo>
                <a:cubicBezTo>
                  <a:pt x="14784" y="14521"/>
                  <a:pt x="14782" y="14374"/>
                  <a:pt x="14858" y="14312"/>
                </a:cubicBezTo>
                <a:cubicBezTo>
                  <a:pt x="14928" y="14254"/>
                  <a:pt x="15121" y="14394"/>
                  <a:pt x="15205" y="14387"/>
                </a:cubicBezTo>
                <a:cubicBezTo>
                  <a:pt x="15301" y="14379"/>
                  <a:pt x="15358" y="14332"/>
                  <a:pt x="15404" y="14263"/>
                </a:cubicBezTo>
              </a:path>
              <a:path w="10618" h="3945">
                <a:moveTo>
                  <a:pt x="15825" y="13643"/>
                </a:moveTo>
                <a:cubicBezTo>
                  <a:pt x="15887" y="13833"/>
                  <a:pt x="15954" y="14147"/>
                  <a:pt x="16049" y="14288"/>
                </a:cubicBezTo>
                <a:cubicBezTo>
                  <a:pt x="16033" y="14194"/>
                  <a:pt x="15993" y="13954"/>
                  <a:pt x="16098" y="13891"/>
                </a:cubicBezTo>
                <a:cubicBezTo>
                  <a:pt x="16148" y="13891"/>
                  <a:pt x="16197" y="13891"/>
                  <a:pt x="16247" y="13891"/>
                </a:cubicBezTo>
                <a:cubicBezTo>
                  <a:pt x="16351" y="14061"/>
                  <a:pt x="16382" y="14256"/>
                  <a:pt x="16123" y="14337"/>
                </a:cubicBezTo>
                <a:cubicBezTo>
                  <a:pt x="16041" y="14337"/>
                  <a:pt x="16008" y="14354"/>
                  <a:pt x="16024" y="14288"/>
                </a:cubicBezTo>
              </a:path>
              <a:path w="10618" h="3945">
                <a:moveTo>
                  <a:pt x="16694" y="13841"/>
                </a:moveTo>
                <a:cubicBezTo>
                  <a:pt x="16524" y="13997"/>
                  <a:pt x="16505" y="14094"/>
                  <a:pt x="16545" y="14312"/>
                </a:cubicBezTo>
                <a:cubicBezTo>
                  <a:pt x="16694" y="14295"/>
                  <a:pt x="16891" y="14255"/>
                  <a:pt x="16818" y="14039"/>
                </a:cubicBezTo>
                <a:cubicBezTo>
                  <a:pt x="16761" y="13964"/>
                  <a:pt x="16757" y="13952"/>
                  <a:pt x="16718" y="13915"/>
                </a:cubicBezTo>
              </a:path>
              <a:path w="10618" h="3945">
                <a:moveTo>
                  <a:pt x="17066" y="13841"/>
                </a:moveTo>
                <a:cubicBezTo>
                  <a:pt x="16941" y="14006"/>
                  <a:pt x="16957" y="14077"/>
                  <a:pt x="17016" y="14263"/>
                </a:cubicBezTo>
                <a:cubicBezTo>
                  <a:pt x="17148" y="14175"/>
                  <a:pt x="17288" y="14021"/>
                  <a:pt x="17140" y="13866"/>
                </a:cubicBezTo>
                <a:cubicBezTo>
                  <a:pt x="17052" y="13821"/>
                  <a:pt x="17031" y="13805"/>
                  <a:pt x="16966" y="13816"/>
                </a:cubicBezTo>
              </a:path>
              <a:path w="10618" h="3945">
                <a:moveTo>
                  <a:pt x="17289" y="13568"/>
                </a:moveTo>
                <a:cubicBezTo>
                  <a:pt x="17350" y="13787"/>
                  <a:pt x="17390" y="13986"/>
                  <a:pt x="17413" y="14213"/>
                </a:cubicBezTo>
              </a:path>
              <a:path w="10618" h="3945">
                <a:moveTo>
                  <a:pt x="17636" y="13643"/>
                </a:moveTo>
                <a:cubicBezTo>
                  <a:pt x="17567" y="13730"/>
                  <a:pt x="17369" y="13930"/>
                  <a:pt x="17512" y="14039"/>
                </a:cubicBezTo>
                <a:cubicBezTo>
                  <a:pt x="17595" y="14102"/>
                  <a:pt x="17713" y="14107"/>
                  <a:pt x="17810" y="14114"/>
                </a:cubicBezTo>
              </a:path>
              <a:path w="10618" h="3945">
                <a:moveTo>
                  <a:pt x="17983" y="13742"/>
                </a:moveTo>
                <a:cubicBezTo>
                  <a:pt x="17895" y="13755"/>
                  <a:pt x="17861" y="13776"/>
                  <a:pt x="17785" y="13816"/>
                </a:cubicBezTo>
                <a:cubicBezTo>
                  <a:pt x="17902" y="13851"/>
                  <a:pt x="18239" y="13970"/>
                  <a:pt x="17959" y="14114"/>
                </a:cubicBezTo>
                <a:cubicBezTo>
                  <a:pt x="17909" y="14122"/>
                  <a:pt x="17860" y="14131"/>
                  <a:pt x="17810" y="14139"/>
                </a:cubicBezTo>
              </a:path>
              <a:path w="10618" h="3945">
                <a:moveTo>
                  <a:pt x="20613" y="12923"/>
                </a:moveTo>
                <a:cubicBezTo>
                  <a:pt x="20594" y="12810"/>
                  <a:pt x="20566" y="12807"/>
                  <a:pt x="20489" y="12700"/>
                </a:cubicBezTo>
                <a:cubicBezTo>
                  <a:pt x="20159" y="12858"/>
                  <a:pt x="20093" y="13015"/>
                  <a:pt x="20166" y="13370"/>
                </a:cubicBezTo>
                <a:cubicBezTo>
                  <a:pt x="20541" y="13276"/>
                  <a:pt x="20489" y="13278"/>
                  <a:pt x="20563" y="12898"/>
                </a:cubicBezTo>
              </a:path>
              <a:path w="10618" h="3945">
                <a:moveTo>
                  <a:pt x="20389" y="12526"/>
                </a:moveTo>
                <a:cubicBezTo>
                  <a:pt x="20452" y="12804"/>
                  <a:pt x="20545" y="13090"/>
                  <a:pt x="20588" y="13370"/>
                </a:cubicBezTo>
              </a:path>
              <a:path w="10618" h="3945">
                <a:moveTo>
                  <a:pt x="20762" y="12948"/>
                </a:moveTo>
                <a:cubicBezTo>
                  <a:pt x="20852" y="12901"/>
                  <a:pt x="20939" y="12876"/>
                  <a:pt x="20985" y="12799"/>
                </a:cubicBezTo>
                <a:cubicBezTo>
                  <a:pt x="20816" y="12732"/>
                  <a:pt x="20748" y="12771"/>
                  <a:pt x="20712" y="12973"/>
                </a:cubicBezTo>
                <a:cubicBezTo>
                  <a:pt x="20646" y="13347"/>
                  <a:pt x="20976" y="13116"/>
                  <a:pt x="21109" y="13022"/>
                </a:cubicBezTo>
              </a:path>
              <a:path w="10618" h="3945">
                <a:moveTo>
                  <a:pt x="21134" y="12675"/>
                </a:moveTo>
                <a:cubicBezTo>
                  <a:pt x="21175" y="12751"/>
                  <a:pt x="21308" y="12918"/>
                  <a:pt x="21307" y="12998"/>
                </a:cubicBezTo>
                <a:cubicBezTo>
                  <a:pt x="21299" y="12990"/>
                  <a:pt x="21290" y="12981"/>
                  <a:pt x="21282" y="12973"/>
                </a:cubicBezTo>
                <a:cubicBezTo>
                  <a:pt x="21209" y="12840"/>
                  <a:pt x="21089" y="12600"/>
                  <a:pt x="21357" y="12576"/>
                </a:cubicBezTo>
                <a:cubicBezTo>
                  <a:pt x="21658" y="12550"/>
                  <a:pt x="21688" y="12774"/>
                  <a:pt x="21679" y="12998"/>
                </a:cubicBezTo>
                <a:cubicBezTo>
                  <a:pt x="21679" y="13006"/>
                  <a:pt x="21679" y="13014"/>
                  <a:pt x="21679" y="13022"/>
                </a:cubicBezTo>
              </a:path>
              <a:path w="10618" h="3945">
                <a:moveTo>
                  <a:pt x="21878" y="12477"/>
                </a:moveTo>
                <a:cubicBezTo>
                  <a:pt x="21772" y="12626"/>
                  <a:pt x="21750" y="12716"/>
                  <a:pt x="21729" y="12898"/>
                </a:cubicBezTo>
                <a:cubicBezTo>
                  <a:pt x="21869" y="12922"/>
                  <a:pt x="22227" y="12826"/>
                  <a:pt x="22051" y="12576"/>
                </a:cubicBezTo>
                <a:cubicBezTo>
                  <a:pt x="21937" y="12530"/>
                  <a:pt x="21906" y="12511"/>
                  <a:pt x="21828" y="12551"/>
                </a:cubicBezTo>
              </a:path>
              <a:path w="10618" h="3945">
                <a:moveTo>
                  <a:pt x="22225" y="12626"/>
                </a:moveTo>
                <a:cubicBezTo>
                  <a:pt x="22244" y="12760"/>
                  <a:pt x="22235" y="12782"/>
                  <a:pt x="22275" y="12849"/>
                </a:cubicBezTo>
                <a:cubicBezTo>
                  <a:pt x="22275" y="12713"/>
                  <a:pt x="22227" y="12585"/>
                  <a:pt x="22275" y="12452"/>
                </a:cubicBezTo>
                <a:cubicBezTo>
                  <a:pt x="22364" y="12205"/>
                  <a:pt x="22562" y="12592"/>
                  <a:pt x="22597" y="12650"/>
                </a:cubicBezTo>
                <a:cubicBezTo>
                  <a:pt x="22597" y="12667"/>
                  <a:pt x="22597" y="12683"/>
                  <a:pt x="22597" y="12700"/>
                </a:cubicBezTo>
                <a:cubicBezTo>
                  <a:pt x="22584" y="12568"/>
                  <a:pt x="22527" y="12405"/>
                  <a:pt x="22597" y="12278"/>
                </a:cubicBezTo>
                <a:cubicBezTo>
                  <a:pt x="22614" y="12270"/>
                  <a:pt x="22630" y="12262"/>
                  <a:pt x="22647" y="12254"/>
                </a:cubicBezTo>
                <a:cubicBezTo>
                  <a:pt x="22825" y="12266"/>
                  <a:pt x="22913" y="12376"/>
                  <a:pt x="22944" y="12576"/>
                </a:cubicBezTo>
                <a:cubicBezTo>
                  <a:pt x="22944" y="12609"/>
                  <a:pt x="22944" y="12642"/>
                  <a:pt x="22944" y="12675"/>
                </a:cubicBezTo>
              </a:path>
              <a:path w="10618" h="3945">
                <a:moveTo>
                  <a:pt x="23093" y="12254"/>
                </a:moveTo>
                <a:cubicBezTo>
                  <a:pt x="23117" y="12419"/>
                  <a:pt x="23124" y="12469"/>
                  <a:pt x="23143" y="12576"/>
                </a:cubicBezTo>
              </a:path>
              <a:path w="10618" h="3945">
                <a:moveTo>
                  <a:pt x="23316" y="12353"/>
                </a:moveTo>
                <a:cubicBezTo>
                  <a:pt x="23333" y="12386"/>
                  <a:pt x="23349" y="12419"/>
                  <a:pt x="23366" y="12452"/>
                </a:cubicBezTo>
                <a:cubicBezTo>
                  <a:pt x="23348" y="12255"/>
                  <a:pt x="23339" y="12156"/>
                  <a:pt x="23416" y="11981"/>
                </a:cubicBezTo>
                <a:cubicBezTo>
                  <a:pt x="23680" y="11980"/>
                  <a:pt x="23693" y="12102"/>
                  <a:pt x="23713" y="12353"/>
                </a:cubicBezTo>
                <a:cubicBezTo>
                  <a:pt x="23713" y="12412"/>
                  <a:pt x="23716" y="12419"/>
                  <a:pt x="23738" y="12328"/>
                </a:cubicBezTo>
              </a:path>
              <a:path w="10618" h="3945">
                <a:moveTo>
                  <a:pt x="24061" y="11931"/>
                </a:moveTo>
                <a:cubicBezTo>
                  <a:pt x="23916" y="11946"/>
                  <a:pt x="23742" y="12027"/>
                  <a:pt x="23738" y="12204"/>
                </a:cubicBezTo>
                <a:cubicBezTo>
                  <a:pt x="23755" y="12237"/>
                  <a:pt x="23771" y="12270"/>
                  <a:pt x="23788" y="12303"/>
                </a:cubicBezTo>
                <a:cubicBezTo>
                  <a:pt x="24042" y="12319"/>
                  <a:pt x="23999" y="12205"/>
                  <a:pt x="24036" y="11981"/>
                </a:cubicBezTo>
                <a:cubicBezTo>
                  <a:pt x="24053" y="11877"/>
                  <a:pt x="24099" y="12168"/>
                  <a:pt x="24160" y="12254"/>
                </a:cubicBezTo>
              </a:path>
              <a:path w="10618" h="3945">
                <a:moveTo>
                  <a:pt x="24036" y="11336"/>
                </a:moveTo>
                <a:cubicBezTo>
                  <a:pt x="24154" y="11581"/>
                  <a:pt x="24260" y="11827"/>
                  <a:pt x="24358" y="12080"/>
                </a:cubicBezTo>
              </a:path>
              <a:path w="10618" h="3945">
                <a:moveTo>
                  <a:pt x="24036" y="11832"/>
                </a:moveTo>
                <a:cubicBezTo>
                  <a:pt x="24224" y="11724"/>
                  <a:pt x="24409" y="11625"/>
                  <a:pt x="24606" y="11534"/>
                </a:cubicBezTo>
                <a:cubicBezTo>
                  <a:pt x="24499" y="11713"/>
                  <a:pt x="24455" y="11789"/>
                  <a:pt x="24532" y="11981"/>
                </a:cubicBezTo>
                <a:cubicBezTo>
                  <a:pt x="24714" y="11943"/>
                  <a:pt x="25061" y="11879"/>
                  <a:pt x="24829" y="11609"/>
                </a:cubicBezTo>
                <a:cubicBezTo>
                  <a:pt x="24711" y="11529"/>
                  <a:pt x="24688" y="11521"/>
                  <a:pt x="24631" y="11460"/>
                </a:cubicBezTo>
              </a:path>
              <a:path w="10618" h="3945">
                <a:moveTo>
                  <a:pt x="24954" y="11633"/>
                </a:moveTo>
                <a:cubicBezTo>
                  <a:pt x="24962" y="11666"/>
                  <a:pt x="24970" y="11700"/>
                  <a:pt x="24978" y="11733"/>
                </a:cubicBezTo>
                <a:cubicBezTo>
                  <a:pt x="25017" y="11499"/>
                  <a:pt x="25060" y="11288"/>
                  <a:pt x="25226" y="11112"/>
                </a:cubicBezTo>
                <a:cubicBezTo>
                  <a:pt x="25283" y="11075"/>
                  <a:pt x="25286" y="11058"/>
                  <a:pt x="25326" y="11063"/>
                </a:cubicBezTo>
              </a:path>
              <a:path w="10618" h="3945">
                <a:moveTo>
                  <a:pt x="22746" y="11807"/>
                </a:moveTo>
                <a:lnTo>
                  <a:pt x="22746" y="11807"/>
                </a:lnTo>
              </a:path>
              <a:path w="10618" h="3945">
                <a:moveTo>
                  <a:pt x="21605" y="10815"/>
                </a:moveTo>
                <a:cubicBezTo>
                  <a:pt x="21198" y="10878"/>
                  <a:pt x="20791" y="10942"/>
                  <a:pt x="20389" y="11038"/>
                </a:cubicBezTo>
                <a:cubicBezTo>
                  <a:pt x="19914" y="11152"/>
                  <a:pt x="19462" y="11310"/>
                  <a:pt x="19000" y="11460"/>
                </a:cubicBezTo>
                <a:cubicBezTo>
                  <a:pt x="18992" y="11460"/>
                  <a:pt x="18984" y="11460"/>
                  <a:pt x="18976" y="11460"/>
                </a:cubicBezTo>
                <a:cubicBezTo>
                  <a:pt x="19084" y="11921"/>
                  <a:pt x="19229" y="12368"/>
                  <a:pt x="19372" y="12824"/>
                </a:cubicBezTo>
                <a:cubicBezTo>
                  <a:pt x="19564" y="13435"/>
                  <a:pt x="19654" y="14089"/>
                  <a:pt x="19869" y="14684"/>
                </a:cubicBezTo>
                <a:cubicBezTo>
                  <a:pt x="19877" y="14709"/>
                  <a:pt x="19885" y="14734"/>
                  <a:pt x="19893" y="14759"/>
                </a:cubicBezTo>
                <a:cubicBezTo>
                  <a:pt x="20252" y="14579"/>
                  <a:pt x="20637" y="14373"/>
                  <a:pt x="21010" y="14213"/>
                </a:cubicBezTo>
                <a:cubicBezTo>
                  <a:pt x="21877" y="13840"/>
                  <a:pt x="22773" y="13592"/>
                  <a:pt x="23664" y="13295"/>
                </a:cubicBezTo>
                <a:cubicBezTo>
                  <a:pt x="23851" y="13233"/>
                  <a:pt x="23985" y="13149"/>
                  <a:pt x="24160" y="13097"/>
                </a:cubicBezTo>
                <a:cubicBezTo>
                  <a:pt x="24205" y="13084"/>
                  <a:pt x="24303" y="13084"/>
                  <a:pt x="24358" y="13072"/>
                </a:cubicBezTo>
              </a:path>
              <a:path w="10618" h="3945">
                <a:moveTo>
                  <a:pt x="18355" y="11633"/>
                </a:moveTo>
                <a:cubicBezTo>
                  <a:pt x="18440" y="11916"/>
                  <a:pt x="18538" y="12185"/>
                  <a:pt x="18604" y="12477"/>
                </a:cubicBezTo>
                <a:cubicBezTo>
                  <a:pt x="18612" y="12510"/>
                  <a:pt x="18620" y="12543"/>
                  <a:pt x="18628" y="12576"/>
                </a:cubicBezTo>
              </a:path>
              <a:path w="10618" h="3945">
                <a:moveTo>
                  <a:pt x="18058" y="12179"/>
                </a:moveTo>
                <a:cubicBezTo>
                  <a:pt x="18265" y="12084"/>
                  <a:pt x="18693" y="11765"/>
                  <a:pt x="18926" y="11807"/>
                </a:cubicBezTo>
                <a:cubicBezTo>
                  <a:pt x="18918" y="11824"/>
                  <a:pt x="18909" y="11840"/>
                  <a:pt x="18901" y="11857"/>
                </a:cubicBezTo>
              </a:path>
              <a:path w="10618" h="3945">
                <a:moveTo>
                  <a:pt x="18604" y="11658"/>
                </a:moveTo>
                <a:cubicBezTo>
                  <a:pt x="18479" y="11940"/>
                  <a:pt x="18378" y="12260"/>
                  <a:pt x="18231" y="12526"/>
                </a:cubicBezTo>
              </a:path>
              <a:path w="10618" h="3945">
                <a:moveTo>
                  <a:pt x="18033" y="11857"/>
                </a:moveTo>
                <a:cubicBezTo>
                  <a:pt x="18337" y="12021"/>
                  <a:pt x="18628" y="12179"/>
                  <a:pt x="18951" y="12303"/>
                </a:cubicBezTo>
                <a:cubicBezTo>
                  <a:pt x="19008" y="12322"/>
                  <a:pt x="19015" y="12331"/>
                  <a:pt x="19050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43120" y="4606920"/>
            <a:ext cx="366840" cy="2509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7342" y="13295"/>
                </a:moveTo>
                <a:cubicBezTo>
                  <a:pt x="7375" y="13198"/>
                  <a:pt x="7455" y="13150"/>
                  <a:pt x="7516" y="13072"/>
                </a:cubicBezTo>
              </a:path>
              <a:path w="1018" h="696">
                <a:moveTo>
                  <a:pt x="7392" y="12799"/>
                </a:moveTo>
                <a:lnTo>
                  <a:pt x="7392" y="12799"/>
                </a:lnTo>
              </a:path>
              <a:path w="1018" h="696">
                <a:moveTo>
                  <a:pt x="7739" y="13494"/>
                </a:moveTo>
                <a:lnTo>
                  <a:pt x="7739" y="13494"/>
                </a:lnTo>
              </a:path>
              <a:path w="1018" h="696">
                <a:moveTo>
                  <a:pt x="7888" y="12973"/>
                </a:moveTo>
                <a:cubicBezTo>
                  <a:pt x="7990" y="12907"/>
                  <a:pt x="8084" y="12836"/>
                  <a:pt x="8210" y="12824"/>
                </a:cubicBezTo>
                <a:cubicBezTo>
                  <a:pt x="8218" y="12824"/>
                  <a:pt x="8227" y="12824"/>
                  <a:pt x="8235" y="12824"/>
                </a:cubicBezTo>
                <a:cubicBezTo>
                  <a:pt x="8283" y="13005"/>
                  <a:pt x="8336" y="13184"/>
                  <a:pt x="8359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24840" y="4027320"/>
            <a:ext cx="615960" cy="322560"/>
          </a:xfrm>
          <a:custGeom>
            <a:avLst/>
            <a:gdLst/>
            <a:ahLst/>
            <a:rect l="l" t="t" r="r" b="b"/>
            <a:pathLst>
              <a:path w="1713" h="894">
                <a:moveTo>
                  <a:pt x="20340" y="11187"/>
                </a:moveTo>
                <a:cubicBezTo>
                  <a:pt x="20376" y="11463"/>
                  <a:pt x="20433" y="11722"/>
                  <a:pt x="20439" y="12005"/>
                </a:cubicBezTo>
                <a:cubicBezTo>
                  <a:pt x="20439" y="12030"/>
                  <a:pt x="20439" y="12055"/>
                  <a:pt x="20439" y="12080"/>
                </a:cubicBezTo>
              </a:path>
              <a:path w="1713" h="894">
                <a:moveTo>
                  <a:pt x="20067" y="11733"/>
                </a:moveTo>
                <a:cubicBezTo>
                  <a:pt x="20308" y="11698"/>
                  <a:pt x="20548" y="11638"/>
                  <a:pt x="20786" y="11609"/>
                </a:cubicBezTo>
              </a:path>
              <a:path w="1713" h="894">
                <a:moveTo>
                  <a:pt x="20662" y="11212"/>
                </a:moveTo>
                <a:cubicBezTo>
                  <a:pt x="20726" y="11445"/>
                  <a:pt x="20787" y="11665"/>
                  <a:pt x="20811" y="11906"/>
                </a:cubicBezTo>
                <a:cubicBezTo>
                  <a:pt x="20835" y="11788"/>
                  <a:pt x="20874" y="11642"/>
                  <a:pt x="20935" y="11534"/>
                </a:cubicBezTo>
                <a:cubicBezTo>
                  <a:pt x="20952" y="11518"/>
                  <a:pt x="20968" y="11501"/>
                  <a:pt x="20985" y="11485"/>
                </a:cubicBezTo>
                <a:cubicBezTo>
                  <a:pt x="21110" y="11609"/>
                  <a:pt x="21151" y="11735"/>
                  <a:pt x="21208" y="11906"/>
                </a:cubicBezTo>
              </a:path>
              <a:path w="1713" h="894">
                <a:moveTo>
                  <a:pt x="21258" y="11633"/>
                </a:moveTo>
                <a:cubicBezTo>
                  <a:pt x="21353" y="11590"/>
                  <a:pt x="21543" y="11504"/>
                  <a:pt x="21630" y="11435"/>
                </a:cubicBezTo>
                <a:cubicBezTo>
                  <a:pt x="21630" y="11410"/>
                  <a:pt x="21630" y="11402"/>
                  <a:pt x="21630" y="11385"/>
                </a:cubicBezTo>
                <a:cubicBezTo>
                  <a:pt x="21479" y="11236"/>
                  <a:pt x="21384" y="11261"/>
                  <a:pt x="21307" y="11485"/>
                </a:cubicBezTo>
                <a:cubicBezTo>
                  <a:pt x="21265" y="11677"/>
                  <a:pt x="21237" y="11722"/>
                  <a:pt x="21307" y="11832"/>
                </a:cubicBezTo>
                <a:cubicBezTo>
                  <a:pt x="21491" y="11839"/>
                  <a:pt x="21601" y="11819"/>
                  <a:pt x="21779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01920" y="5340240"/>
            <a:ext cx="1670040" cy="490680"/>
          </a:xfrm>
          <a:custGeom>
            <a:avLst/>
            <a:gdLst/>
            <a:ahLst/>
            <a:rect l="l" t="t" r="r" b="b"/>
            <a:pathLst>
              <a:path w="4640" h="1365">
                <a:moveTo>
                  <a:pt x="6672" y="15503"/>
                </a:moveTo>
                <a:cubicBezTo>
                  <a:pt x="6684" y="15527"/>
                  <a:pt x="7021" y="15479"/>
                  <a:pt x="7045" y="15478"/>
                </a:cubicBezTo>
                <a:cubicBezTo>
                  <a:pt x="7136" y="15478"/>
                  <a:pt x="7144" y="15478"/>
                  <a:pt x="7193" y="15478"/>
                </a:cubicBezTo>
                <a:cubicBezTo>
                  <a:pt x="7139" y="15697"/>
                  <a:pt x="7082" y="15938"/>
                  <a:pt x="6995" y="16148"/>
                </a:cubicBezTo>
                <a:cubicBezTo>
                  <a:pt x="6971" y="16207"/>
                  <a:pt x="6978" y="16191"/>
                  <a:pt x="7045" y="16173"/>
                </a:cubicBezTo>
              </a:path>
              <a:path w="4640" h="1365">
                <a:moveTo>
                  <a:pt x="7838" y="15776"/>
                </a:moveTo>
                <a:cubicBezTo>
                  <a:pt x="7834" y="15807"/>
                  <a:pt x="7776" y="16054"/>
                  <a:pt x="7813" y="16073"/>
                </a:cubicBezTo>
                <a:cubicBezTo>
                  <a:pt x="7967" y="16154"/>
                  <a:pt x="8060" y="15901"/>
                  <a:pt x="8111" y="15825"/>
                </a:cubicBezTo>
                <a:cubicBezTo>
                  <a:pt x="8119" y="15817"/>
                  <a:pt x="8128" y="15809"/>
                  <a:pt x="8136" y="15801"/>
                </a:cubicBezTo>
                <a:cubicBezTo>
                  <a:pt x="8151" y="15974"/>
                  <a:pt x="8178" y="16166"/>
                  <a:pt x="8409" y="16073"/>
                </a:cubicBezTo>
                <a:cubicBezTo>
                  <a:pt x="8654" y="15974"/>
                  <a:pt x="8577" y="15761"/>
                  <a:pt x="8483" y="15602"/>
                </a:cubicBezTo>
              </a:path>
              <a:path w="4640" h="1365">
                <a:moveTo>
                  <a:pt x="8781" y="15304"/>
                </a:moveTo>
                <a:cubicBezTo>
                  <a:pt x="8798" y="15551"/>
                  <a:pt x="8801" y="15777"/>
                  <a:pt x="8781" y="16024"/>
                </a:cubicBezTo>
                <a:cubicBezTo>
                  <a:pt x="8781" y="16074"/>
                  <a:pt x="8781" y="16057"/>
                  <a:pt x="8781" y="15949"/>
                </a:cubicBezTo>
              </a:path>
              <a:path w="4640" h="1365">
                <a:moveTo>
                  <a:pt x="9079" y="15553"/>
                </a:moveTo>
                <a:cubicBezTo>
                  <a:pt x="8977" y="15660"/>
                  <a:pt x="8911" y="15725"/>
                  <a:pt x="8781" y="15801"/>
                </a:cubicBezTo>
                <a:cubicBezTo>
                  <a:pt x="8897" y="15782"/>
                  <a:pt x="9046" y="15750"/>
                  <a:pt x="9128" y="15875"/>
                </a:cubicBezTo>
                <a:cubicBezTo>
                  <a:pt x="9192" y="15971"/>
                  <a:pt x="9086" y="16144"/>
                  <a:pt x="9203" y="16049"/>
                </a:cubicBezTo>
              </a:path>
              <a:path w="4640" h="1365">
                <a:moveTo>
                  <a:pt x="9624" y="15602"/>
                </a:moveTo>
                <a:cubicBezTo>
                  <a:pt x="9554" y="15637"/>
                  <a:pt x="9466" y="15676"/>
                  <a:pt x="9426" y="15726"/>
                </a:cubicBezTo>
                <a:cubicBezTo>
                  <a:pt x="9577" y="15762"/>
                  <a:pt x="9686" y="15803"/>
                  <a:pt x="9823" y="15875"/>
                </a:cubicBezTo>
                <a:cubicBezTo>
                  <a:pt x="9752" y="16105"/>
                  <a:pt x="9650" y="16075"/>
                  <a:pt x="9451" y="15999"/>
                </a:cubicBezTo>
              </a:path>
              <a:path w="4640" h="1365">
                <a:moveTo>
                  <a:pt x="11038" y="14908"/>
                </a:moveTo>
                <a:cubicBezTo>
                  <a:pt x="11156" y="14857"/>
                  <a:pt x="11154" y="14854"/>
                  <a:pt x="11286" y="14833"/>
                </a:cubicBezTo>
              </a:path>
              <a:path w="4640" h="1365">
                <a:moveTo>
                  <a:pt x="11013" y="15205"/>
                </a:moveTo>
                <a:cubicBezTo>
                  <a:pt x="11171" y="15182"/>
                  <a:pt x="11212" y="15177"/>
                  <a:pt x="11311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0840" y="5224320"/>
            <a:ext cx="1260360" cy="446400"/>
          </a:xfrm>
          <a:custGeom>
            <a:avLst/>
            <a:gdLst/>
            <a:ahLst/>
            <a:rect l="l" t="t" r="r" b="b"/>
            <a:pathLst>
              <a:path w="3499" h="1241">
                <a:moveTo>
                  <a:pt x="13419" y="14957"/>
                </a:moveTo>
                <a:cubicBezTo>
                  <a:pt x="13557" y="14940"/>
                  <a:pt x="13704" y="14933"/>
                  <a:pt x="13841" y="14908"/>
                </a:cubicBezTo>
                <a:cubicBezTo>
                  <a:pt x="14404" y="14804"/>
                  <a:pt x="14959" y="14704"/>
                  <a:pt x="15528" y="14635"/>
                </a:cubicBezTo>
                <a:cubicBezTo>
                  <a:pt x="15815" y="14600"/>
                  <a:pt x="16108" y="14558"/>
                  <a:pt x="16396" y="14536"/>
                </a:cubicBezTo>
                <a:cubicBezTo>
                  <a:pt x="16502" y="14528"/>
                  <a:pt x="16612" y="14501"/>
                  <a:pt x="16718" y="14511"/>
                </a:cubicBezTo>
                <a:cubicBezTo>
                  <a:pt x="16786" y="14518"/>
                  <a:pt x="16963" y="14485"/>
                  <a:pt x="16917" y="14536"/>
                </a:cubicBezTo>
                <a:cubicBezTo>
                  <a:pt x="16865" y="14585"/>
                  <a:pt x="16826" y="14612"/>
                  <a:pt x="16768" y="14635"/>
                </a:cubicBezTo>
              </a:path>
              <a:path w="3499" h="1241">
                <a:moveTo>
                  <a:pt x="15032" y="15007"/>
                </a:moveTo>
                <a:cubicBezTo>
                  <a:pt x="15006" y="14929"/>
                  <a:pt x="15007" y="15097"/>
                  <a:pt x="15007" y="15180"/>
                </a:cubicBezTo>
                <a:cubicBezTo>
                  <a:pt x="15007" y="15370"/>
                  <a:pt x="15007" y="15561"/>
                  <a:pt x="15007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322960"/>
            <a:ext cx="411480" cy="293760"/>
          </a:xfrm>
          <a:custGeom>
            <a:avLst/>
            <a:gdLst/>
            <a:ahLst/>
            <a:rect l="l" t="t" r="r" b="b"/>
            <a:pathLst>
              <a:path w="1142" h="819">
                <a:moveTo>
                  <a:pt x="15900" y="15106"/>
                </a:moveTo>
                <a:cubicBezTo>
                  <a:pt x="15910" y="15203"/>
                  <a:pt x="15896" y="15510"/>
                  <a:pt x="15974" y="15577"/>
                </a:cubicBezTo>
                <a:cubicBezTo>
                  <a:pt x="16080" y="15669"/>
                  <a:pt x="16079" y="15285"/>
                  <a:pt x="16148" y="15354"/>
                </a:cubicBezTo>
                <a:cubicBezTo>
                  <a:pt x="16236" y="15530"/>
                  <a:pt x="16207" y="15496"/>
                  <a:pt x="16346" y="15602"/>
                </a:cubicBezTo>
                <a:cubicBezTo>
                  <a:pt x="16383" y="15541"/>
                  <a:pt x="16506" y="15110"/>
                  <a:pt x="16272" y="15180"/>
                </a:cubicBezTo>
                <a:cubicBezTo>
                  <a:pt x="16264" y="15205"/>
                  <a:pt x="16255" y="15230"/>
                  <a:pt x="16247" y="15255"/>
                </a:cubicBezTo>
              </a:path>
              <a:path w="1142" h="819">
                <a:moveTo>
                  <a:pt x="16644" y="14784"/>
                </a:moveTo>
                <a:cubicBezTo>
                  <a:pt x="16696" y="15030"/>
                  <a:pt x="16745" y="15779"/>
                  <a:pt x="16768" y="15528"/>
                </a:cubicBezTo>
                <a:cubicBezTo>
                  <a:pt x="16768" y="15487"/>
                  <a:pt x="16768" y="15445"/>
                  <a:pt x="16768" y="15404"/>
                </a:cubicBezTo>
              </a:path>
              <a:path w="1142" h="819">
                <a:moveTo>
                  <a:pt x="16867" y="15007"/>
                </a:moveTo>
                <a:cubicBezTo>
                  <a:pt x="16806" y="15150"/>
                  <a:pt x="16799" y="15180"/>
                  <a:pt x="16743" y="15255"/>
                </a:cubicBezTo>
                <a:cubicBezTo>
                  <a:pt x="16874" y="15255"/>
                  <a:pt x="16936" y="15300"/>
                  <a:pt x="16991" y="15429"/>
                </a:cubicBezTo>
                <a:cubicBezTo>
                  <a:pt x="17010" y="15523"/>
                  <a:pt x="16996" y="15543"/>
                  <a:pt x="17041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760" y="5875200"/>
            <a:ext cx="393480" cy="358920"/>
          </a:xfrm>
          <a:custGeom>
            <a:avLst/>
            <a:gdLst/>
            <a:ahLst/>
            <a:rect l="l" t="t" r="r" b="b"/>
            <a:pathLst>
              <a:path w="1092" h="994">
                <a:moveTo>
                  <a:pt x="7541" y="16495"/>
                </a:moveTo>
                <a:cubicBezTo>
                  <a:pt x="7691" y="16533"/>
                  <a:pt x="7865" y="16566"/>
                  <a:pt x="8012" y="16619"/>
                </a:cubicBezTo>
                <a:cubicBezTo>
                  <a:pt x="8035" y="16642"/>
                  <a:pt x="8039" y="16650"/>
                  <a:pt x="8062" y="16644"/>
                </a:cubicBezTo>
              </a:path>
              <a:path w="1092" h="994">
                <a:moveTo>
                  <a:pt x="7838" y="16321"/>
                </a:moveTo>
                <a:lnTo>
                  <a:pt x="7838" y="16321"/>
                </a:lnTo>
              </a:path>
              <a:path w="1092" h="994">
                <a:moveTo>
                  <a:pt x="7789" y="17066"/>
                </a:moveTo>
                <a:lnTo>
                  <a:pt x="7789" y="17066"/>
                </a:lnTo>
                <a:lnTo>
                  <a:pt x="7789" y="17066"/>
                </a:lnTo>
              </a:path>
              <a:path w="1092" h="994">
                <a:moveTo>
                  <a:pt x="8260" y="16594"/>
                </a:moveTo>
                <a:cubicBezTo>
                  <a:pt x="8302" y="16512"/>
                  <a:pt x="8442" y="16498"/>
                  <a:pt x="8533" y="16470"/>
                </a:cubicBezTo>
                <a:cubicBezTo>
                  <a:pt x="8590" y="16451"/>
                  <a:pt x="8597" y="16443"/>
                  <a:pt x="8632" y="16446"/>
                </a:cubicBezTo>
                <a:cubicBezTo>
                  <a:pt x="8621" y="16727"/>
                  <a:pt x="8608" y="17011"/>
                  <a:pt x="8582" y="17289"/>
                </a:cubicBezTo>
                <a:cubicBezTo>
                  <a:pt x="8582" y="17314"/>
                  <a:pt x="8582" y="17322"/>
                  <a:pt x="8607" y="173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Write the Space Station’s average rate o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unit r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 writing unit ra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2286000"/>
          <a:ext cx="101628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10162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90400" y="4267080"/>
          <a:ext cx="161316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4267080"/>
                    <a:ext cx="16131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343400" y="4267080"/>
          <a:ext cx="25401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267080"/>
                    <a:ext cx="25401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089680" y="2152800"/>
            <a:ext cx="2260440" cy="1133280"/>
          </a:xfrm>
          <a:custGeom>
            <a:avLst/>
            <a:gdLst/>
            <a:ahLst/>
            <a:rect l="l" t="t" r="r" b="b"/>
            <a:pathLst>
              <a:path w="6276" h="3151">
                <a:moveTo>
                  <a:pt x="16197" y="7714"/>
                </a:moveTo>
                <a:cubicBezTo>
                  <a:pt x="16359" y="7680"/>
                  <a:pt x="16529" y="7643"/>
                  <a:pt x="16694" y="7615"/>
                </a:cubicBezTo>
                <a:cubicBezTo>
                  <a:pt x="17225" y="7523"/>
                  <a:pt x="17769" y="7522"/>
                  <a:pt x="18306" y="7491"/>
                </a:cubicBezTo>
                <a:cubicBezTo>
                  <a:pt x="18559" y="7476"/>
                  <a:pt x="18803" y="7453"/>
                  <a:pt x="19050" y="7417"/>
                </a:cubicBezTo>
                <a:cubicBezTo>
                  <a:pt x="19058" y="7417"/>
                  <a:pt x="19067" y="7417"/>
                  <a:pt x="19075" y="7417"/>
                </a:cubicBezTo>
              </a:path>
              <a:path w="6276" h="3151">
                <a:moveTo>
                  <a:pt x="17512" y="7962"/>
                </a:moveTo>
                <a:cubicBezTo>
                  <a:pt x="17536" y="7893"/>
                  <a:pt x="17534" y="7977"/>
                  <a:pt x="17537" y="8012"/>
                </a:cubicBezTo>
                <a:cubicBezTo>
                  <a:pt x="17557" y="8213"/>
                  <a:pt x="17587" y="8405"/>
                  <a:pt x="17587" y="8607"/>
                </a:cubicBezTo>
                <a:cubicBezTo>
                  <a:pt x="17587" y="8624"/>
                  <a:pt x="17587" y="8640"/>
                  <a:pt x="17587" y="8657"/>
                </a:cubicBezTo>
              </a:path>
              <a:path w="6276" h="3151">
                <a:moveTo>
                  <a:pt x="18455" y="8186"/>
                </a:moveTo>
                <a:cubicBezTo>
                  <a:pt x="18407" y="8202"/>
                  <a:pt x="18371" y="8226"/>
                  <a:pt x="18331" y="8260"/>
                </a:cubicBezTo>
                <a:cubicBezTo>
                  <a:pt x="18370" y="8402"/>
                  <a:pt x="18456" y="8381"/>
                  <a:pt x="18579" y="8458"/>
                </a:cubicBezTo>
                <a:cubicBezTo>
                  <a:pt x="18552" y="8567"/>
                  <a:pt x="18458" y="8631"/>
                  <a:pt x="18331" y="8607"/>
                </a:cubicBezTo>
                <a:cubicBezTo>
                  <a:pt x="18331" y="8554"/>
                  <a:pt x="18344" y="8520"/>
                  <a:pt x="18380" y="8483"/>
                </a:cubicBezTo>
              </a:path>
              <a:path w="6276" h="3151">
                <a:moveTo>
                  <a:pt x="18852" y="8359"/>
                </a:moveTo>
                <a:cubicBezTo>
                  <a:pt x="18921" y="8345"/>
                  <a:pt x="18980" y="8297"/>
                  <a:pt x="19050" y="8285"/>
                </a:cubicBezTo>
                <a:cubicBezTo>
                  <a:pt x="19058" y="8285"/>
                  <a:pt x="19067" y="8285"/>
                  <a:pt x="19075" y="8285"/>
                </a:cubicBezTo>
                <a:cubicBezTo>
                  <a:pt x="19023" y="8246"/>
                  <a:pt x="18967" y="8225"/>
                  <a:pt x="18901" y="8210"/>
                </a:cubicBezTo>
                <a:cubicBezTo>
                  <a:pt x="18838" y="8328"/>
                  <a:pt x="18746" y="8484"/>
                  <a:pt x="18926" y="8558"/>
                </a:cubicBezTo>
                <a:cubicBezTo>
                  <a:pt x="19048" y="8608"/>
                  <a:pt x="19131" y="8502"/>
                  <a:pt x="19199" y="8434"/>
                </a:cubicBezTo>
              </a:path>
              <a:path w="6276" h="3151">
                <a:moveTo>
                  <a:pt x="19298" y="8136"/>
                </a:moveTo>
                <a:cubicBezTo>
                  <a:pt x="19313" y="8165"/>
                  <a:pt x="19348" y="8227"/>
                  <a:pt x="19348" y="8186"/>
                </a:cubicBezTo>
                <a:cubicBezTo>
                  <a:pt x="19273" y="8130"/>
                  <a:pt x="19202" y="8228"/>
                  <a:pt x="19199" y="8310"/>
                </a:cubicBezTo>
                <a:cubicBezTo>
                  <a:pt x="19192" y="8510"/>
                  <a:pt x="19401" y="8470"/>
                  <a:pt x="19521" y="8458"/>
                </a:cubicBezTo>
              </a:path>
              <a:path w="6276" h="3151">
                <a:moveTo>
                  <a:pt x="19745" y="8359"/>
                </a:moveTo>
                <a:cubicBezTo>
                  <a:pt x="19745" y="8351"/>
                  <a:pt x="19745" y="8342"/>
                  <a:pt x="19745" y="8334"/>
                </a:cubicBezTo>
              </a:path>
              <a:path w="6276" h="3151">
                <a:moveTo>
                  <a:pt x="19695" y="6052"/>
                </a:moveTo>
                <a:cubicBezTo>
                  <a:pt x="19448" y="6082"/>
                  <a:pt x="19201" y="6099"/>
                  <a:pt x="18951" y="6102"/>
                </a:cubicBezTo>
                <a:cubicBezTo>
                  <a:pt x="18472" y="6108"/>
                  <a:pt x="17991" y="6043"/>
                  <a:pt x="17512" y="6028"/>
                </a:cubicBezTo>
                <a:cubicBezTo>
                  <a:pt x="17270" y="6021"/>
                  <a:pt x="17008" y="5969"/>
                  <a:pt x="16768" y="5978"/>
                </a:cubicBezTo>
                <a:cubicBezTo>
                  <a:pt x="16638" y="5983"/>
                  <a:pt x="16514" y="6008"/>
                  <a:pt x="16396" y="6052"/>
                </a:cubicBezTo>
                <a:cubicBezTo>
                  <a:pt x="16243" y="6110"/>
                  <a:pt x="16301" y="6075"/>
                  <a:pt x="16272" y="6176"/>
                </a:cubicBezTo>
                <a:cubicBezTo>
                  <a:pt x="16207" y="6401"/>
                  <a:pt x="16435" y="6955"/>
                  <a:pt x="16470" y="7193"/>
                </a:cubicBezTo>
                <a:cubicBezTo>
                  <a:pt x="16532" y="7612"/>
                  <a:pt x="16596" y="8058"/>
                  <a:pt x="16743" y="8458"/>
                </a:cubicBezTo>
                <a:cubicBezTo>
                  <a:pt x="16778" y="8553"/>
                  <a:pt x="16807" y="8605"/>
                  <a:pt x="16818" y="8706"/>
                </a:cubicBezTo>
                <a:cubicBezTo>
                  <a:pt x="16829" y="8801"/>
                  <a:pt x="16830" y="8860"/>
                  <a:pt x="16867" y="8954"/>
                </a:cubicBezTo>
                <a:cubicBezTo>
                  <a:pt x="16886" y="9002"/>
                  <a:pt x="16917" y="9077"/>
                  <a:pt x="16966" y="9103"/>
                </a:cubicBezTo>
                <a:cubicBezTo>
                  <a:pt x="17100" y="9175"/>
                  <a:pt x="17321" y="9119"/>
                  <a:pt x="17462" y="9103"/>
                </a:cubicBezTo>
                <a:cubicBezTo>
                  <a:pt x="17884" y="9056"/>
                  <a:pt x="18309" y="9024"/>
                  <a:pt x="18728" y="8954"/>
                </a:cubicBezTo>
                <a:cubicBezTo>
                  <a:pt x="19160" y="8882"/>
                  <a:pt x="19584" y="8808"/>
                  <a:pt x="20017" y="8756"/>
                </a:cubicBezTo>
                <a:cubicBezTo>
                  <a:pt x="20062" y="8751"/>
                  <a:pt x="20342" y="8763"/>
                  <a:pt x="20365" y="8731"/>
                </a:cubicBezTo>
                <a:cubicBezTo>
                  <a:pt x="20424" y="8650"/>
                  <a:pt x="20397" y="8762"/>
                  <a:pt x="20414" y="8533"/>
                </a:cubicBezTo>
                <a:cubicBezTo>
                  <a:pt x="20440" y="8179"/>
                  <a:pt x="20326" y="7763"/>
                  <a:pt x="20265" y="7417"/>
                </a:cubicBezTo>
                <a:cubicBezTo>
                  <a:pt x="20230" y="7219"/>
                  <a:pt x="20153" y="7033"/>
                  <a:pt x="20092" y="6846"/>
                </a:cubicBezTo>
                <a:cubicBezTo>
                  <a:pt x="20052" y="6725"/>
                  <a:pt x="20022" y="6598"/>
                  <a:pt x="19993" y="6474"/>
                </a:cubicBezTo>
                <a:cubicBezTo>
                  <a:pt x="19971" y="6379"/>
                  <a:pt x="19950" y="6379"/>
                  <a:pt x="19918" y="6300"/>
                </a:cubicBezTo>
                <a:cubicBezTo>
                  <a:pt x="19893" y="6237"/>
                  <a:pt x="19869" y="6212"/>
                  <a:pt x="19844" y="6176"/>
                </a:cubicBezTo>
              </a:path>
              <a:path w="6276" h="3151">
                <a:moveTo>
                  <a:pt x="14139" y="7193"/>
                </a:moveTo>
                <a:cubicBezTo>
                  <a:pt x="14512" y="7193"/>
                  <a:pt x="14883" y="7217"/>
                  <a:pt x="15255" y="7243"/>
                </a:cubicBezTo>
                <a:cubicBezTo>
                  <a:pt x="15444" y="7256"/>
                  <a:pt x="15593" y="7263"/>
                  <a:pt x="15776" y="7268"/>
                </a:cubicBezTo>
              </a:path>
              <a:path w="6276" h="3151">
                <a:moveTo>
                  <a:pt x="15230" y="6970"/>
                </a:moveTo>
                <a:cubicBezTo>
                  <a:pt x="15437" y="6987"/>
                  <a:pt x="15651" y="7003"/>
                  <a:pt x="15850" y="7069"/>
                </a:cubicBezTo>
                <a:cubicBezTo>
                  <a:pt x="15883" y="7086"/>
                  <a:pt x="15916" y="7102"/>
                  <a:pt x="15949" y="7119"/>
                </a:cubicBezTo>
                <a:cubicBezTo>
                  <a:pt x="15898" y="7301"/>
                  <a:pt x="15743" y="7399"/>
                  <a:pt x="15627" y="7541"/>
                </a:cubicBezTo>
                <a:cubicBezTo>
                  <a:pt x="15607" y="7581"/>
                  <a:pt x="15598" y="7607"/>
                  <a:pt x="15602" y="75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9960" y="2286000"/>
            <a:ext cx="15228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711" y="6350"/>
                </a:moveTo>
                <a:cubicBezTo>
                  <a:pt x="17663" y="6357"/>
                  <a:pt x="17471" y="6350"/>
                  <a:pt x="17438" y="6375"/>
                </a:cubicBezTo>
                <a:cubicBezTo>
                  <a:pt x="17354" y="6438"/>
                  <a:pt x="17369" y="6560"/>
                  <a:pt x="17363" y="6648"/>
                </a:cubicBezTo>
                <a:cubicBezTo>
                  <a:pt x="17386" y="6713"/>
                  <a:pt x="17511" y="6600"/>
                  <a:pt x="17562" y="6598"/>
                </a:cubicBezTo>
                <a:cubicBezTo>
                  <a:pt x="17823" y="6587"/>
                  <a:pt x="17858" y="6836"/>
                  <a:pt x="17686" y="6995"/>
                </a:cubicBezTo>
                <a:cubicBezTo>
                  <a:pt x="17554" y="7117"/>
                  <a:pt x="17448" y="7095"/>
                  <a:pt x="17363" y="70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1880" y="231300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18281" y="6747"/>
                </a:moveTo>
                <a:cubicBezTo>
                  <a:pt x="18281" y="6855"/>
                  <a:pt x="18295" y="6962"/>
                  <a:pt x="18306" y="7069"/>
                </a:cubicBezTo>
                <a:cubicBezTo>
                  <a:pt x="18306" y="7045"/>
                  <a:pt x="18306" y="7036"/>
                  <a:pt x="18306" y="7020"/>
                </a:cubicBezTo>
                <a:cubicBezTo>
                  <a:pt x="18311" y="6923"/>
                  <a:pt x="18295" y="6677"/>
                  <a:pt x="18479" y="6796"/>
                </a:cubicBezTo>
                <a:cubicBezTo>
                  <a:pt x="18575" y="6892"/>
                  <a:pt x="18605" y="6920"/>
                  <a:pt x="18653" y="6995"/>
                </a:cubicBezTo>
                <a:cubicBezTo>
                  <a:pt x="18653" y="7041"/>
                  <a:pt x="18633" y="6866"/>
                  <a:pt x="18653" y="6821"/>
                </a:cubicBezTo>
                <a:cubicBezTo>
                  <a:pt x="18709" y="6696"/>
                  <a:pt x="18874" y="6755"/>
                  <a:pt x="18926" y="6846"/>
                </a:cubicBezTo>
                <a:cubicBezTo>
                  <a:pt x="18964" y="6912"/>
                  <a:pt x="18969" y="7020"/>
                  <a:pt x="18976" y="7094"/>
                </a:cubicBezTo>
              </a:path>
              <a:path w="993" h="671">
                <a:moveTo>
                  <a:pt x="19199" y="6747"/>
                </a:moveTo>
                <a:cubicBezTo>
                  <a:pt x="19234" y="6844"/>
                  <a:pt x="19303" y="7144"/>
                  <a:pt x="19273" y="7045"/>
                </a:cubicBezTo>
                <a:cubicBezTo>
                  <a:pt x="19265" y="7012"/>
                  <a:pt x="19256" y="6978"/>
                  <a:pt x="19248" y="6945"/>
                </a:cubicBezTo>
              </a:path>
              <a:path w="993" h="671">
                <a:moveTo>
                  <a:pt x="19124" y="6424"/>
                </a:moveTo>
                <a:lnTo>
                  <a:pt x="19124" y="6424"/>
                </a:lnTo>
                <a:lnTo>
                  <a:pt x="19124" y="6424"/>
                </a:lnTo>
              </a:path>
              <a:path w="993" h="671">
                <a:moveTo>
                  <a:pt x="19124" y="6424"/>
                </a:moveTo>
                <a:lnTo>
                  <a:pt x="19124" y="642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0200" y="4759200"/>
            <a:ext cx="214560" cy="135000"/>
          </a:xfrm>
          <a:custGeom>
            <a:avLst/>
            <a:gdLst/>
            <a:ahLst/>
            <a:rect l="l" t="t" r="r" b="b"/>
            <a:pathLst>
              <a:path w="597" h="373">
                <a:moveTo>
                  <a:pt x="6945" y="13295"/>
                </a:moveTo>
                <a:cubicBezTo>
                  <a:pt x="7059" y="13295"/>
                  <a:pt x="7181" y="13264"/>
                  <a:pt x="7293" y="13246"/>
                </a:cubicBezTo>
                <a:cubicBezTo>
                  <a:pt x="7381" y="13232"/>
                  <a:pt x="7470" y="13193"/>
                  <a:pt x="7541" y="13246"/>
                </a:cubicBezTo>
              </a:path>
              <a:path w="597" h="373">
                <a:moveTo>
                  <a:pt x="7045" y="13593"/>
                </a:moveTo>
                <a:cubicBezTo>
                  <a:pt x="7168" y="13576"/>
                  <a:pt x="7349" y="13500"/>
                  <a:pt x="7466" y="13519"/>
                </a:cubicBezTo>
                <a:cubicBezTo>
                  <a:pt x="7466" y="13527"/>
                  <a:pt x="7466" y="13535"/>
                  <a:pt x="7466" y="135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27240" y="4510080"/>
            <a:ext cx="1017720" cy="669960"/>
          </a:xfrm>
          <a:custGeom>
            <a:avLst/>
            <a:gdLst/>
            <a:ahLst/>
            <a:rect l="l" t="t" r="r" b="b"/>
            <a:pathLst>
              <a:path w="2829" h="1862">
                <a:moveTo>
                  <a:pt x="8409" y="13444"/>
                </a:moveTo>
                <a:cubicBezTo>
                  <a:pt x="8447" y="13467"/>
                  <a:pt x="8498" y="13481"/>
                  <a:pt x="8582" y="13469"/>
                </a:cubicBezTo>
                <a:cubicBezTo>
                  <a:pt x="8745" y="13445"/>
                  <a:pt x="8914" y="13430"/>
                  <a:pt x="9079" y="13419"/>
                </a:cubicBezTo>
                <a:cubicBezTo>
                  <a:pt x="9261" y="13407"/>
                  <a:pt x="9442" y="13381"/>
                  <a:pt x="9624" y="13370"/>
                </a:cubicBezTo>
                <a:cubicBezTo>
                  <a:pt x="9898" y="13353"/>
                  <a:pt x="10174" y="13384"/>
                  <a:pt x="10443" y="13345"/>
                </a:cubicBezTo>
                <a:cubicBezTo>
                  <a:pt x="10515" y="13335"/>
                  <a:pt x="10605" y="13329"/>
                  <a:pt x="10666" y="13320"/>
                </a:cubicBezTo>
                <a:cubicBezTo>
                  <a:pt x="10696" y="13316"/>
                  <a:pt x="10734" y="13320"/>
                  <a:pt x="10765" y="13320"/>
                </a:cubicBezTo>
              </a:path>
              <a:path w="2829" h="1862">
                <a:moveTo>
                  <a:pt x="9525" y="13717"/>
                </a:moveTo>
                <a:cubicBezTo>
                  <a:pt x="9525" y="13709"/>
                  <a:pt x="9525" y="13700"/>
                  <a:pt x="9525" y="13692"/>
                </a:cubicBezTo>
                <a:cubicBezTo>
                  <a:pt x="9460" y="13714"/>
                  <a:pt x="9569" y="14058"/>
                  <a:pt x="9575" y="14139"/>
                </a:cubicBezTo>
                <a:cubicBezTo>
                  <a:pt x="9582" y="14221"/>
                  <a:pt x="9550" y="14303"/>
                  <a:pt x="9599" y="14337"/>
                </a:cubicBezTo>
              </a:path>
              <a:path w="2829" h="1862">
                <a:moveTo>
                  <a:pt x="9203" y="12650"/>
                </a:moveTo>
                <a:cubicBezTo>
                  <a:pt x="9230" y="12582"/>
                  <a:pt x="9332" y="12476"/>
                  <a:pt x="9426" y="12526"/>
                </a:cubicBezTo>
                <a:cubicBezTo>
                  <a:pt x="9500" y="12566"/>
                  <a:pt x="9394" y="12749"/>
                  <a:pt x="9351" y="12774"/>
                </a:cubicBezTo>
                <a:cubicBezTo>
                  <a:pt x="9485" y="12743"/>
                  <a:pt x="9743" y="12790"/>
                  <a:pt x="9624" y="13022"/>
                </a:cubicBezTo>
                <a:cubicBezTo>
                  <a:pt x="9577" y="13113"/>
                  <a:pt x="9315" y="13277"/>
                  <a:pt x="9203" y="13221"/>
                </a:cubicBezTo>
                <a:cubicBezTo>
                  <a:pt x="9186" y="13204"/>
                  <a:pt x="9170" y="13188"/>
                  <a:pt x="9153" y="13171"/>
                </a:cubicBezTo>
              </a:path>
              <a:path w="2829" h="1862">
                <a:moveTo>
                  <a:pt x="9847" y="12849"/>
                </a:moveTo>
                <a:cubicBezTo>
                  <a:pt x="9907" y="12954"/>
                  <a:pt x="9916" y="13073"/>
                  <a:pt x="9922" y="13196"/>
                </a:cubicBezTo>
                <a:cubicBezTo>
                  <a:pt x="9922" y="13221"/>
                  <a:pt x="9922" y="13229"/>
                  <a:pt x="9922" y="13196"/>
                </a:cubicBezTo>
                <a:cubicBezTo>
                  <a:pt x="9904" y="13070"/>
                  <a:pt x="9901" y="12906"/>
                  <a:pt x="9996" y="12799"/>
                </a:cubicBezTo>
                <a:cubicBezTo>
                  <a:pt x="10096" y="12686"/>
                  <a:pt x="10290" y="12919"/>
                  <a:pt x="10319" y="12998"/>
                </a:cubicBezTo>
                <a:cubicBezTo>
                  <a:pt x="10353" y="13093"/>
                  <a:pt x="10319" y="13129"/>
                  <a:pt x="10319" y="13047"/>
                </a:cubicBezTo>
                <a:cubicBezTo>
                  <a:pt x="10300" y="12886"/>
                  <a:pt x="10309" y="12823"/>
                  <a:pt x="10418" y="12700"/>
                </a:cubicBezTo>
                <a:cubicBezTo>
                  <a:pt x="10557" y="12816"/>
                  <a:pt x="10576" y="12897"/>
                  <a:pt x="10616" y="13072"/>
                </a:cubicBezTo>
              </a:path>
              <a:path w="2829" h="1862">
                <a:moveTo>
                  <a:pt x="10120" y="14039"/>
                </a:moveTo>
                <a:cubicBezTo>
                  <a:pt x="10158" y="14039"/>
                  <a:pt x="10058" y="14082"/>
                  <a:pt x="10021" y="14114"/>
                </a:cubicBezTo>
                <a:cubicBezTo>
                  <a:pt x="10046" y="14214"/>
                  <a:pt x="10183" y="14174"/>
                  <a:pt x="10269" y="14213"/>
                </a:cubicBezTo>
                <a:cubicBezTo>
                  <a:pt x="10277" y="14221"/>
                  <a:pt x="10286" y="14230"/>
                  <a:pt x="10294" y="14238"/>
                </a:cubicBezTo>
                <a:cubicBezTo>
                  <a:pt x="10288" y="14246"/>
                  <a:pt x="10076" y="14475"/>
                  <a:pt x="10071" y="14362"/>
                </a:cubicBezTo>
                <a:cubicBezTo>
                  <a:pt x="10079" y="14329"/>
                  <a:pt x="10088" y="14296"/>
                  <a:pt x="10096" y="14263"/>
                </a:cubicBezTo>
              </a:path>
              <a:path w="2829" h="1862">
                <a:moveTo>
                  <a:pt x="10443" y="14114"/>
                </a:moveTo>
                <a:cubicBezTo>
                  <a:pt x="10515" y="14114"/>
                  <a:pt x="10572" y="14101"/>
                  <a:pt x="10641" y="14089"/>
                </a:cubicBezTo>
                <a:cubicBezTo>
                  <a:pt x="10618" y="14042"/>
                  <a:pt x="10552" y="14001"/>
                  <a:pt x="10492" y="13990"/>
                </a:cubicBezTo>
                <a:cubicBezTo>
                  <a:pt x="10386" y="13971"/>
                  <a:pt x="10399" y="14262"/>
                  <a:pt x="10468" y="14312"/>
                </a:cubicBezTo>
                <a:cubicBezTo>
                  <a:pt x="10624" y="14426"/>
                  <a:pt x="10719" y="14223"/>
                  <a:pt x="10790" y="14139"/>
                </a:cubicBezTo>
              </a:path>
              <a:path w="2829" h="1862">
                <a:moveTo>
                  <a:pt x="10815" y="13915"/>
                </a:moveTo>
                <a:cubicBezTo>
                  <a:pt x="10734" y="14013"/>
                  <a:pt x="10679" y="14232"/>
                  <a:pt x="10914" y="14213"/>
                </a:cubicBezTo>
                <a:cubicBezTo>
                  <a:pt x="10990" y="14174"/>
                  <a:pt x="11005" y="14175"/>
                  <a:pt x="11038" y="14139"/>
                </a:cubicBezTo>
              </a:path>
              <a:path w="2829" h="1862">
                <a:moveTo>
                  <a:pt x="11237" y="14163"/>
                </a:moveTo>
                <a:lnTo>
                  <a:pt x="11237" y="14163"/>
                </a:lnTo>
                <a:lnTo>
                  <a:pt x="11237" y="14163"/>
                </a:lnTo>
              </a:path>
              <a:path w="2829" h="1862">
                <a:moveTo>
                  <a:pt x="11237" y="14163"/>
                </a:moveTo>
                <a:lnTo>
                  <a:pt x="11237" y="141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09840" y="5232240"/>
            <a:ext cx="490320" cy="216000"/>
          </a:xfrm>
          <a:custGeom>
            <a:avLst/>
            <a:gdLst/>
            <a:ahLst/>
            <a:rect l="l" t="t" r="r" b="b"/>
            <a:pathLst>
              <a:path w="1365" h="596">
                <a:moveTo>
                  <a:pt x="4192" y="14660"/>
                </a:moveTo>
                <a:cubicBezTo>
                  <a:pt x="4284" y="14678"/>
                  <a:pt x="4366" y="14750"/>
                  <a:pt x="4440" y="14808"/>
                </a:cubicBezTo>
                <a:cubicBezTo>
                  <a:pt x="4463" y="14831"/>
                  <a:pt x="4467" y="14839"/>
                  <a:pt x="4490" y="14833"/>
                </a:cubicBezTo>
              </a:path>
              <a:path w="1365" h="596">
                <a:moveTo>
                  <a:pt x="4465" y="14536"/>
                </a:moveTo>
                <a:lnTo>
                  <a:pt x="4465" y="14536"/>
                </a:lnTo>
              </a:path>
              <a:path w="1365" h="596">
                <a:moveTo>
                  <a:pt x="4291" y="15081"/>
                </a:moveTo>
                <a:lnTo>
                  <a:pt x="4291" y="15081"/>
                </a:lnTo>
              </a:path>
              <a:path w="1365" h="596">
                <a:moveTo>
                  <a:pt x="4713" y="14709"/>
                </a:moveTo>
                <a:cubicBezTo>
                  <a:pt x="4864" y="14656"/>
                  <a:pt x="4884" y="14656"/>
                  <a:pt x="5035" y="14709"/>
                </a:cubicBezTo>
                <a:cubicBezTo>
                  <a:pt x="5035" y="14934"/>
                  <a:pt x="4992" y="15029"/>
                  <a:pt x="4787" y="15131"/>
                </a:cubicBezTo>
                <a:cubicBezTo>
                  <a:pt x="4731" y="15055"/>
                  <a:pt x="4715" y="14937"/>
                  <a:pt x="4862" y="14932"/>
                </a:cubicBezTo>
                <a:cubicBezTo>
                  <a:pt x="4972" y="14928"/>
                  <a:pt x="5028" y="15008"/>
                  <a:pt x="5085" y="15081"/>
                </a:cubicBezTo>
              </a:path>
              <a:path w="1365" h="596">
                <a:moveTo>
                  <a:pt x="5283" y="14610"/>
                </a:moveTo>
                <a:cubicBezTo>
                  <a:pt x="5165" y="14640"/>
                  <a:pt x="5178" y="14836"/>
                  <a:pt x="5184" y="14932"/>
                </a:cubicBezTo>
                <a:cubicBezTo>
                  <a:pt x="5192" y="14973"/>
                  <a:pt x="5201" y="15015"/>
                  <a:pt x="5209" y="15056"/>
                </a:cubicBezTo>
                <a:cubicBezTo>
                  <a:pt x="5342" y="15056"/>
                  <a:pt x="5594" y="14998"/>
                  <a:pt x="5556" y="14784"/>
                </a:cubicBezTo>
                <a:cubicBezTo>
                  <a:pt x="5528" y="14631"/>
                  <a:pt x="5395" y="14587"/>
                  <a:pt x="5283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85960" y="4089240"/>
            <a:ext cx="455760" cy="233640"/>
          </a:xfrm>
          <a:custGeom>
            <a:avLst/>
            <a:gdLst/>
            <a:ahLst/>
            <a:rect l="l" t="t" r="r" b="b"/>
            <a:pathLst>
              <a:path w="1266" h="645">
                <a:moveTo>
                  <a:pt x="4961" y="11956"/>
                </a:moveTo>
                <a:cubicBezTo>
                  <a:pt x="5057" y="11850"/>
                  <a:pt x="5108" y="11825"/>
                  <a:pt x="5234" y="11757"/>
                </a:cubicBezTo>
              </a:path>
              <a:path w="1266" h="645">
                <a:moveTo>
                  <a:pt x="5011" y="11559"/>
                </a:moveTo>
                <a:cubicBezTo>
                  <a:pt x="5011" y="11567"/>
                  <a:pt x="5011" y="11576"/>
                  <a:pt x="5011" y="11584"/>
                </a:cubicBezTo>
              </a:path>
              <a:path w="1266" h="645">
                <a:moveTo>
                  <a:pt x="5184" y="12005"/>
                </a:moveTo>
                <a:lnTo>
                  <a:pt x="5184" y="12005"/>
                </a:lnTo>
              </a:path>
              <a:path w="1266" h="645">
                <a:moveTo>
                  <a:pt x="5457" y="11559"/>
                </a:moveTo>
                <a:cubicBezTo>
                  <a:pt x="5649" y="11570"/>
                  <a:pt x="5760" y="11611"/>
                  <a:pt x="5655" y="11832"/>
                </a:cubicBezTo>
                <a:cubicBezTo>
                  <a:pt x="5591" y="11918"/>
                  <a:pt x="5583" y="11951"/>
                  <a:pt x="5507" y="11931"/>
                </a:cubicBezTo>
                <a:cubicBezTo>
                  <a:pt x="5479" y="11803"/>
                  <a:pt x="5554" y="11740"/>
                  <a:pt x="5705" y="11782"/>
                </a:cubicBezTo>
                <a:cubicBezTo>
                  <a:pt x="5832" y="11817"/>
                  <a:pt x="5767" y="11866"/>
                  <a:pt x="5879" y="11782"/>
                </a:cubicBezTo>
              </a:path>
              <a:path w="1266" h="645">
                <a:moveTo>
                  <a:pt x="5953" y="11361"/>
                </a:moveTo>
                <a:cubicBezTo>
                  <a:pt x="5921" y="11577"/>
                  <a:pt x="5900" y="11584"/>
                  <a:pt x="6028" y="11757"/>
                </a:cubicBezTo>
                <a:cubicBezTo>
                  <a:pt x="6137" y="11709"/>
                  <a:pt x="6401" y="11502"/>
                  <a:pt x="6127" y="11410"/>
                </a:cubicBezTo>
                <a:cubicBezTo>
                  <a:pt x="6077" y="11410"/>
                  <a:pt x="6028" y="11410"/>
                  <a:pt x="5978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2000" y="4106880"/>
            <a:ext cx="509400" cy="206280"/>
          </a:xfrm>
          <a:custGeom>
            <a:avLst/>
            <a:gdLst/>
            <a:ahLst/>
            <a:rect l="l" t="t" r="r" b="b"/>
            <a:pathLst>
              <a:path w="1415" h="572">
                <a:moveTo>
                  <a:pt x="15949" y="11757"/>
                </a:moveTo>
                <a:cubicBezTo>
                  <a:pt x="16039" y="11793"/>
                  <a:pt x="16205" y="11745"/>
                  <a:pt x="16321" y="11733"/>
                </a:cubicBezTo>
                <a:cubicBezTo>
                  <a:pt x="16329" y="11733"/>
                  <a:pt x="16338" y="11733"/>
                  <a:pt x="16346" y="11733"/>
                </a:cubicBezTo>
              </a:path>
              <a:path w="1415" h="572">
                <a:moveTo>
                  <a:pt x="16148" y="11485"/>
                </a:moveTo>
                <a:cubicBezTo>
                  <a:pt x="16148" y="11501"/>
                  <a:pt x="16148" y="11518"/>
                  <a:pt x="16148" y="11534"/>
                </a:cubicBezTo>
              </a:path>
              <a:path w="1415" h="572">
                <a:moveTo>
                  <a:pt x="16123" y="11981"/>
                </a:moveTo>
                <a:cubicBezTo>
                  <a:pt x="16131" y="11981"/>
                  <a:pt x="16140" y="11981"/>
                  <a:pt x="16148" y="11981"/>
                </a:cubicBezTo>
              </a:path>
              <a:path w="1415" h="572">
                <a:moveTo>
                  <a:pt x="16148" y="11981"/>
                </a:moveTo>
                <a:lnTo>
                  <a:pt x="16148" y="11981"/>
                </a:lnTo>
              </a:path>
              <a:path w="1415" h="572">
                <a:moveTo>
                  <a:pt x="16594" y="11534"/>
                </a:moveTo>
                <a:cubicBezTo>
                  <a:pt x="16723" y="11525"/>
                  <a:pt x="16967" y="11602"/>
                  <a:pt x="16867" y="11807"/>
                </a:cubicBezTo>
                <a:cubicBezTo>
                  <a:pt x="16785" y="11974"/>
                  <a:pt x="16661" y="11950"/>
                  <a:pt x="16520" y="11931"/>
                </a:cubicBezTo>
                <a:cubicBezTo>
                  <a:pt x="16582" y="11843"/>
                  <a:pt x="16687" y="11768"/>
                  <a:pt x="16768" y="11906"/>
                </a:cubicBezTo>
                <a:cubicBezTo>
                  <a:pt x="16768" y="11931"/>
                  <a:pt x="16768" y="11939"/>
                  <a:pt x="16793" y="11931"/>
                </a:cubicBezTo>
              </a:path>
              <a:path w="1415" h="572">
                <a:moveTo>
                  <a:pt x="17314" y="11435"/>
                </a:moveTo>
                <a:cubicBezTo>
                  <a:pt x="17182" y="11399"/>
                  <a:pt x="17201" y="11391"/>
                  <a:pt x="17115" y="11485"/>
                </a:cubicBezTo>
                <a:cubicBezTo>
                  <a:pt x="17065" y="11540"/>
                  <a:pt x="17031" y="11550"/>
                  <a:pt x="17016" y="11609"/>
                </a:cubicBezTo>
                <a:cubicBezTo>
                  <a:pt x="17075" y="11638"/>
                  <a:pt x="17132" y="11680"/>
                  <a:pt x="17214" y="11708"/>
                </a:cubicBezTo>
                <a:cubicBezTo>
                  <a:pt x="17280" y="11730"/>
                  <a:pt x="17436" y="11843"/>
                  <a:pt x="17314" y="11906"/>
                </a:cubicBezTo>
                <a:cubicBezTo>
                  <a:pt x="17238" y="11945"/>
                  <a:pt x="17146" y="11931"/>
                  <a:pt x="17066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9240" y="4402080"/>
            <a:ext cx="1411560" cy="250920"/>
          </a:xfrm>
          <a:custGeom>
            <a:avLst/>
            <a:gdLst/>
            <a:ahLst/>
            <a:rect l="l" t="t" r="r" b="b"/>
            <a:pathLst>
              <a:path w="3920" h="695">
                <a:moveTo>
                  <a:pt x="21555" y="12328"/>
                </a:moveTo>
                <a:cubicBezTo>
                  <a:pt x="21776" y="12402"/>
                  <a:pt x="21850" y="12532"/>
                  <a:pt x="21630" y="12725"/>
                </a:cubicBezTo>
                <a:cubicBezTo>
                  <a:pt x="21474" y="12862"/>
                  <a:pt x="21319" y="12857"/>
                  <a:pt x="21134" y="12849"/>
                </a:cubicBezTo>
                <a:cubicBezTo>
                  <a:pt x="21181" y="12705"/>
                  <a:pt x="21417" y="12610"/>
                  <a:pt x="21605" y="12750"/>
                </a:cubicBezTo>
                <a:cubicBezTo>
                  <a:pt x="21660" y="12791"/>
                  <a:pt x="21612" y="12845"/>
                  <a:pt x="21654" y="12874"/>
                </a:cubicBezTo>
              </a:path>
              <a:path w="3920" h="695">
                <a:moveTo>
                  <a:pt x="22126" y="12353"/>
                </a:moveTo>
                <a:cubicBezTo>
                  <a:pt x="22008" y="12478"/>
                  <a:pt x="21974" y="12555"/>
                  <a:pt x="21927" y="12725"/>
                </a:cubicBezTo>
                <a:cubicBezTo>
                  <a:pt x="22064" y="12812"/>
                  <a:pt x="22312" y="12866"/>
                  <a:pt x="22324" y="12601"/>
                </a:cubicBezTo>
                <a:cubicBezTo>
                  <a:pt x="22330" y="12480"/>
                  <a:pt x="22206" y="12409"/>
                  <a:pt x="22126" y="12353"/>
                </a:cubicBezTo>
              </a:path>
              <a:path w="3920" h="695">
                <a:moveTo>
                  <a:pt x="22572" y="12303"/>
                </a:moveTo>
                <a:cubicBezTo>
                  <a:pt x="22414" y="12475"/>
                  <a:pt x="22383" y="12570"/>
                  <a:pt x="22473" y="12774"/>
                </a:cubicBezTo>
                <a:cubicBezTo>
                  <a:pt x="22670" y="12818"/>
                  <a:pt x="22907" y="12736"/>
                  <a:pt x="22820" y="12452"/>
                </a:cubicBezTo>
                <a:cubicBezTo>
                  <a:pt x="22728" y="12337"/>
                  <a:pt x="22707" y="12296"/>
                  <a:pt x="22597" y="12328"/>
                </a:cubicBezTo>
              </a:path>
              <a:path w="3920" h="695">
                <a:moveTo>
                  <a:pt x="23168" y="12601"/>
                </a:moveTo>
                <a:cubicBezTo>
                  <a:pt x="23130" y="12694"/>
                  <a:pt x="23128" y="12729"/>
                  <a:pt x="23143" y="12824"/>
                </a:cubicBezTo>
                <a:cubicBezTo>
                  <a:pt x="23317" y="12851"/>
                  <a:pt x="23329" y="12811"/>
                  <a:pt x="23391" y="12650"/>
                </a:cubicBezTo>
                <a:cubicBezTo>
                  <a:pt x="23391" y="12762"/>
                  <a:pt x="23414" y="12838"/>
                  <a:pt x="23540" y="12849"/>
                </a:cubicBezTo>
                <a:cubicBezTo>
                  <a:pt x="23665" y="12860"/>
                  <a:pt x="23797" y="12702"/>
                  <a:pt x="23664" y="12626"/>
                </a:cubicBezTo>
                <a:cubicBezTo>
                  <a:pt x="23639" y="12618"/>
                  <a:pt x="23614" y="12609"/>
                  <a:pt x="23589" y="12601"/>
                </a:cubicBezTo>
              </a:path>
              <a:path w="3920" h="695">
                <a:moveTo>
                  <a:pt x="23862" y="12576"/>
                </a:moveTo>
                <a:cubicBezTo>
                  <a:pt x="23785" y="12712"/>
                  <a:pt x="23732" y="12910"/>
                  <a:pt x="23986" y="12874"/>
                </a:cubicBezTo>
                <a:cubicBezTo>
                  <a:pt x="24264" y="12835"/>
                  <a:pt x="24102" y="12616"/>
                  <a:pt x="23961" y="12551"/>
                </a:cubicBezTo>
                <a:cubicBezTo>
                  <a:pt x="23953" y="12551"/>
                  <a:pt x="23945" y="12551"/>
                  <a:pt x="23937" y="12551"/>
                </a:cubicBezTo>
              </a:path>
              <a:path w="3920" h="695">
                <a:moveTo>
                  <a:pt x="24135" y="12750"/>
                </a:moveTo>
                <a:cubicBezTo>
                  <a:pt x="24143" y="12766"/>
                  <a:pt x="24152" y="12783"/>
                  <a:pt x="24160" y="12799"/>
                </a:cubicBezTo>
                <a:cubicBezTo>
                  <a:pt x="24180" y="12773"/>
                  <a:pt x="24158" y="12573"/>
                  <a:pt x="24209" y="12551"/>
                </a:cubicBezTo>
                <a:cubicBezTo>
                  <a:pt x="24242" y="12551"/>
                  <a:pt x="24276" y="12551"/>
                  <a:pt x="24309" y="12551"/>
                </a:cubicBezTo>
              </a:path>
              <a:path w="3920" h="695">
                <a:moveTo>
                  <a:pt x="24631" y="12601"/>
                </a:moveTo>
                <a:cubicBezTo>
                  <a:pt x="24545" y="12503"/>
                  <a:pt x="24416" y="12437"/>
                  <a:pt x="24309" y="12576"/>
                </a:cubicBezTo>
                <a:cubicBezTo>
                  <a:pt x="24263" y="12690"/>
                  <a:pt x="24244" y="12721"/>
                  <a:pt x="24284" y="12799"/>
                </a:cubicBezTo>
                <a:cubicBezTo>
                  <a:pt x="24511" y="12826"/>
                  <a:pt x="24635" y="12769"/>
                  <a:pt x="24656" y="12502"/>
                </a:cubicBezTo>
                <a:cubicBezTo>
                  <a:pt x="24634" y="12349"/>
                  <a:pt x="24635" y="12311"/>
                  <a:pt x="24581" y="12229"/>
                </a:cubicBezTo>
                <a:cubicBezTo>
                  <a:pt x="24616" y="12370"/>
                  <a:pt x="24585" y="12602"/>
                  <a:pt x="24656" y="12725"/>
                </a:cubicBezTo>
                <a:cubicBezTo>
                  <a:pt x="24681" y="12733"/>
                  <a:pt x="24705" y="12742"/>
                  <a:pt x="24730" y="12750"/>
                </a:cubicBezTo>
              </a:path>
              <a:path w="3920" h="695">
                <a:moveTo>
                  <a:pt x="24904" y="12477"/>
                </a:moveTo>
                <a:cubicBezTo>
                  <a:pt x="24741" y="12616"/>
                  <a:pt x="25072" y="12580"/>
                  <a:pt x="25028" y="12799"/>
                </a:cubicBezTo>
                <a:cubicBezTo>
                  <a:pt x="24996" y="12959"/>
                  <a:pt x="24748" y="12902"/>
                  <a:pt x="24656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72240" y="4749840"/>
            <a:ext cx="947880" cy="287280"/>
          </a:xfrm>
          <a:custGeom>
            <a:avLst/>
            <a:gdLst/>
            <a:ahLst/>
            <a:rect l="l" t="t" r="r" b="b"/>
            <a:pathLst>
              <a:path w="2631" h="795">
                <a:moveTo>
                  <a:pt x="21034" y="13295"/>
                </a:moveTo>
                <a:cubicBezTo>
                  <a:pt x="21710" y="13210"/>
                  <a:pt x="22386" y="13200"/>
                  <a:pt x="23068" y="13196"/>
                </a:cubicBezTo>
                <a:cubicBezTo>
                  <a:pt x="23274" y="13195"/>
                  <a:pt x="23843" y="13061"/>
                  <a:pt x="23515" y="13271"/>
                </a:cubicBezTo>
              </a:path>
              <a:path w="2631" h="795">
                <a:moveTo>
                  <a:pt x="22051" y="13494"/>
                </a:moveTo>
                <a:cubicBezTo>
                  <a:pt x="22036" y="13662"/>
                  <a:pt x="22012" y="13825"/>
                  <a:pt x="21977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00920" y="4768920"/>
            <a:ext cx="160200" cy="889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19447" y="13271"/>
                </a:moveTo>
                <a:cubicBezTo>
                  <a:pt x="19519" y="13313"/>
                  <a:pt x="19637" y="13292"/>
                  <a:pt x="19720" y="13271"/>
                </a:cubicBezTo>
                <a:cubicBezTo>
                  <a:pt x="19771" y="13258"/>
                  <a:pt x="19770" y="13246"/>
                  <a:pt x="19819" y="13246"/>
                </a:cubicBezTo>
              </a:path>
              <a:path w="447" h="249">
                <a:moveTo>
                  <a:pt x="19645" y="13469"/>
                </a:moveTo>
                <a:cubicBezTo>
                  <a:pt x="19742" y="13481"/>
                  <a:pt x="19796" y="13479"/>
                  <a:pt x="19893" y="134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53280" y="4857840"/>
            <a:ext cx="561960" cy="295200"/>
          </a:xfrm>
          <a:custGeom>
            <a:avLst/>
            <a:gdLst/>
            <a:ahLst/>
            <a:rect l="l" t="t" r="r" b="b"/>
            <a:pathLst>
              <a:path w="1563" h="819">
                <a:moveTo>
                  <a:pt x="22721" y="13692"/>
                </a:moveTo>
                <a:cubicBezTo>
                  <a:pt x="22721" y="13857"/>
                  <a:pt x="22721" y="14023"/>
                  <a:pt x="22721" y="14188"/>
                </a:cubicBezTo>
                <a:cubicBezTo>
                  <a:pt x="22702" y="14019"/>
                  <a:pt x="22615" y="13833"/>
                  <a:pt x="22721" y="13667"/>
                </a:cubicBezTo>
                <a:cubicBezTo>
                  <a:pt x="22762" y="13642"/>
                  <a:pt x="22804" y="13618"/>
                  <a:pt x="22845" y="13593"/>
                </a:cubicBezTo>
                <a:cubicBezTo>
                  <a:pt x="22977" y="13676"/>
                  <a:pt x="23163" y="13958"/>
                  <a:pt x="22820" y="13965"/>
                </a:cubicBezTo>
                <a:cubicBezTo>
                  <a:pt x="22703" y="13918"/>
                  <a:pt x="22665" y="13908"/>
                  <a:pt x="22647" y="13816"/>
                </a:cubicBezTo>
              </a:path>
              <a:path w="1563" h="819">
                <a:moveTo>
                  <a:pt x="23267" y="13643"/>
                </a:moveTo>
                <a:cubicBezTo>
                  <a:pt x="23136" y="13656"/>
                  <a:pt x="23083" y="13747"/>
                  <a:pt x="23044" y="13891"/>
                </a:cubicBezTo>
                <a:cubicBezTo>
                  <a:pt x="23191" y="13872"/>
                  <a:pt x="23247" y="13875"/>
                  <a:pt x="23292" y="13717"/>
                </a:cubicBezTo>
                <a:cubicBezTo>
                  <a:pt x="23326" y="13820"/>
                  <a:pt x="23347" y="13806"/>
                  <a:pt x="23440" y="13866"/>
                </a:cubicBezTo>
              </a:path>
              <a:path w="1563" h="819">
                <a:moveTo>
                  <a:pt x="23713" y="13618"/>
                </a:moveTo>
                <a:cubicBezTo>
                  <a:pt x="23654" y="13652"/>
                  <a:pt x="23312" y="13898"/>
                  <a:pt x="23564" y="13891"/>
                </a:cubicBezTo>
                <a:cubicBezTo>
                  <a:pt x="23703" y="13887"/>
                  <a:pt x="23706" y="13843"/>
                  <a:pt x="23763" y="13742"/>
                </a:cubicBezTo>
                <a:cubicBezTo>
                  <a:pt x="23803" y="13900"/>
                  <a:pt x="23871" y="14015"/>
                  <a:pt x="23788" y="14188"/>
                </a:cubicBezTo>
                <a:cubicBezTo>
                  <a:pt x="23670" y="14433"/>
                  <a:pt x="23478" y="14299"/>
                  <a:pt x="23440" y="14139"/>
                </a:cubicBezTo>
              </a:path>
              <a:path w="1563" h="819">
                <a:moveTo>
                  <a:pt x="24036" y="13667"/>
                </a:moveTo>
                <a:cubicBezTo>
                  <a:pt x="24103" y="13667"/>
                  <a:pt x="24137" y="13663"/>
                  <a:pt x="24185" y="13643"/>
                </a:cubicBezTo>
                <a:cubicBezTo>
                  <a:pt x="24114" y="13619"/>
                  <a:pt x="24221" y="13522"/>
                  <a:pt x="24085" y="13494"/>
                </a:cubicBezTo>
                <a:cubicBezTo>
                  <a:pt x="23858" y="13448"/>
                  <a:pt x="23883" y="13800"/>
                  <a:pt x="24061" y="13866"/>
                </a:cubicBezTo>
                <a:cubicBezTo>
                  <a:pt x="24110" y="13866"/>
                  <a:pt x="24160" y="13866"/>
                  <a:pt x="24209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5232240"/>
            <a:ext cx="490320" cy="250920"/>
          </a:xfrm>
          <a:custGeom>
            <a:avLst/>
            <a:gdLst/>
            <a:ahLst/>
            <a:rect l="l" t="t" r="r" b="b"/>
            <a:pathLst>
              <a:path w="1365" h="695">
                <a:moveTo>
                  <a:pt x="15205" y="14932"/>
                </a:moveTo>
                <a:lnTo>
                  <a:pt x="15205" y="14932"/>
                </a:lnTo>
                <a:lnTo>
                  <a:pt x="15205" y="14932"/>
                </a:lnTo>
              </a:path>
              <a:path w="1365" h="695">
                <a:moveTo>
                  <a:pt x="15106" y="14709"/>
                </a:moveTo>
                <a:cubicBezTo>
                  <a:pt x="15106" y="14684"/>
                  <a:pt x="15106" y="14676"/>
                  <a:pt x="15106" y="14660"/>
                </a:cubicBezTo>
                <a:cubicBezTo>
                  <a:pt x="15177" y="14730"/>
                  <a:pt x="15256" y="14805"/>
                  <a:pt x="15329" y="14858"/>
                </a:cubicBezTo>
                <a:cubicBezTo>
                  <a:pt x="15337" y="14866"/>
                  <a:pt x="15346" y="14875"/>
                  <a:pt x="15354" y="14883"/>
                </a:cubicBezTo>
              </a:path>
              <a:path w="1365" h="695">
                <a:moveTo>
                  <a:pt x="15255" y="14536"/>
                </a:moveTo>
                <a:lnTo>
                  <a:pt x="15255" y="14536"/>
                </a:lnTo>
              </a:path>
              <a:path w="1365" h="695">
                <a:moveTo>
                  <a:pt x="15032" y="14957"/>
                </a:moveTo>
                <a:lnTo>
                  <a:pt x="15032" y="14957"/>
                </a:lnTo>
              </a:path>
              <a:path w="1365" h="695">
                <a:moveTo>
                  <a:pt x="15602" y="14759"/>
                </a:moveTo>
                <a:cubicBezTo>
                  <a:pt x="15733" y="14750"/>
                  <a:pt x="15967" y="14817"/>
                  <a:pt x="15801" y="15007"/>
                </a:cubicBezTo>
                <a:cubicBezTo>
                  <a:pt x="15673" y="15153"/>
                  <a:pt x="15590" y="15115"/>
                  <a:pt x="15453" y="15056"/>
                </a:cubicBezTo>
                <a:cubicBezTo>
                  <a:pt x="15553" y="14970"/>
                  <a:pt x="15640" y="14953"/>
                  <a:pt x="15726" y="15081"/>
                </a:cubicBezTo>
                <a:cubicBezTo>
                  <a:pt x="15784" y="15168"/>
                  <a:pt x="15761" y="15135"/>
                  <a:pt x="15875" y="15056"/>
                </a:cubicBezTo>
              </a:path>
              <a:path w="1365" h="695">
                <a:moveTo>
                  <a:pt x="16247" y="14784"/>
                </a:moveTo>
                <a:cubicBezTo>
                  <a:pt x="16153" y="14810"/>
                  <a:pt x="16087" y="14800"/>
                  <a:pt x="16073" y="14883"/>
                </a:cubicBezTo>
                <a:cubicBezTo>
                  <a:pt x="16029" y="15018"/>
                  <a:pt x="16282" y="14940"/>
                  <a:pt x="16371" y="15032"/>
                </a:cubicBezTo>
                <a:cubicBezTo>
                  <a:pt x="16379" y="15065"/>
                  <a:pt x="16388" y="15098"/>
                  <a:pt x="16396" y="15131"/>
                </a:cubicBezTo>
                <a:cubicBezTo>
                  <a:pt x="16180" y="15274"/>
                  <a:pt x="16110" y="15257"/>
                  <a:pt x="16098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1000" y="669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73" y="18604"/>
                </a:moveTo>
                <a:lnTo>
                  <a:pt x="3473" y="18604"/>
                </a:lnTo>
                <a:lnTo>
                  <a:pt x="3473" y="186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2143080"/>
            <a:ext cx="1554120" cy="1285920"/>
          </a:xfrm>
          <a:custGeom>
            <a:avLst/>
            <a:gdLst/>
            <a:ahLst/>
            <a:rect l="l" t="t" r="r" b="b"/>
            <a:pathLst>
              <a:path w="4317" h="3573">
                <a:moveTo>
                  <a:pt x="4837" y="5978"/>
                </a:moveTo>
                <a:cubicBezTo>
                  <a:pt x="4779" y="5975"/>
                  <a:pt x="4641" y="5957"/>
                  <a:pt x="4564" y="5953"/>
                </a:cubicBezTo>
                <a:cubicBezTo>
                  <a:pt x="4341" y="5942"/>
                  <a:pt x="3990" y="5927"/>
                  <a:pt x="3820" y="6102"/>
                </a:cubicBezTo>
                <a:cubicBezTo>
                  <a:pt x="3779" y="6144"/>
                  <a:pt x="3735" y="6245"/>
                  <a:pt x="3696" y="6300"/>
                </a:cubicBezTo>
                <a:cubicBezTo>
                  <a:pt x="3633" y="6259"/>
                  <a:pt x="3560" y="6196"/>
                  <a:pt x="3448" y="6176"/>
                </a:cubicBezTo>
                <a:cubicBezTo>
                  <a:pt x="3271" y="6144"/>
                  <a:pt x="3087" y="6233"/>
                  <a:pt x="2927" y="6201"/>
                </a:cubicBezTo>
                <a:cubicBezTo>
                  <a:pt x="2765" y="6169"/>
                  <a:pt x="2709" y="6072"/>
                  <a:pt x="2530" y="6176"/>
                </a:cubicBezTo>
                <a:cubicBezTo>
                  <a:pt x="2352" y="6279"/>
                  <a:pt x="2360" y="6190"/>
                  <a:pt x="2158" y="6226"/>
                </a:cubicBezTo>
                <a:cubicBezTo>
                  <a:pt x="1997" y="6255"/>
                  <a:pt x="1716" y="6628"/>
                  <a:pt x="1885" y="6772"/>
                </a:cubicBezTo>
                <a:cubicBezTo>
                  <a:pt x="1980" y="6853"/>
                  <a:pt x="1933" y="6731"/>
                  <a:pt x="1984" y="6722"/>
                </a:cubicBezTo>
                <a:cubicBezTo>
                  <a:pt x="1784" y="6775"/>
                  <a:pt x="1689" y="6822"/>
                  <a:pt x="1612" y="7094"/>
                </a:cubicBezTo>
                <a:cubicBezTo>
                  <a:pt x="1549" y="7318"/>
                  <a:pt x="1628" y="7416"/>
                  <a:pt x="1736" y="7491"/>
                </a:cubicBezTo>
                <a:cubicBezTo>
                  <a:pt x="1756" y="7451"/>
                  <a:pt x="1765" y="7444"/>
                  <a:pt x="1761" y="7417"/>
                </a:cubicBezTo>
                <a:cubicBezTo>
                  <a:pt x="1677" y="7591"/>
                  <a:pt x="1606" y="7685"/>
                  <a:pt x="1712" y="7888"/>
                </a:cubicBezTo>
                <a:cubicBezTo>
                  <a:pt x="1744" y="7949"/>
                  <a:pt x="1901" y="8044"/>
                  <a:pt x="1910" y="8086"/>
                </a:cubicBezTo>
                <a:cubicBezTo>
                  <a:pt x="1939" y="8232"/>
                  <a:pt x="1831" y="8385"/>
                  <a:pt x="1910" y="8533"/>
                </a:cubicBezTo>
                <a:cubicBezTo>
                  <a:pt x="1947" y="8603"/>
                  <a:pt x="2008" y="8565"/>
                  <a:pt x="2034" y="8657"/>
                </a:cubicBezTo>
                <a:cubicBezTo>
                  <a:pt x="2066" y="8769"/>
                  <a:pt x="1959" y="9046"/>
                  <a:pt x="2059" y="9128"/>
                </a:cubicBezTo>
                <a:cubicBezTo>
                  <a:pt x="2129" y="9185"/>
                  <a:pt x="2179" y="9058"/>
                  <a:pt x="2208" y="9054"/>
                </a:cubicBezTo>
                <a:cubicBezTo>
                  <a:pt x="2199" y="9128"/>
                  <a:pt x="2117" y="9402"/>
                  <a:pt x="2232" y="9451"/>
                </a:cubicBezTo>
                <a:cubicBezTo>
                  <a:pt x="2356" y="9504"/>
                  <a:pt x="2508" y="9358"/>
                  <a:pt x="2604" y="9302"/>
                </a:cubicBezTo>
                <a:cubicBezTo>
                  <a:pt x="2667" y="9404"/>
                  <a:pt x="2625" y="9491"/>
                  <a:pt x="2803" y="9525"/>
                </a:cubicBezTo>
                <a:cubicBezTo>
                  <a:pt x="3031" y="9568"/>
                  <a:pt x="3209" y="9375"/>
                  <a:pt x="3398" y="9451"/>
                </a:cubicBezTo>
                <a:cubicBezTo>
                  <a:pt x="3636" y="9546"/>
                  <a:pt x="3730" y="9500"/>
                  <a:pt x="3969" y="9351"/>
                </a:cubicBezTo>
                <a:cubicBezTo>
                  <a:pt x="4002" y="9326"/>
                  <a:pt x="4035" y="9302"/>
                  <a:pt x="4068" y="9277"/>
                </a:cubicBezTo>
                <a:cubicBezTo>
                  <a:pt x="4188" y="9385"/>
                  <a:pt x="4162" y="9500"/>
                  <a:pt x="4366" y="9426"/>
                </a:cubicBezTo>
                <a:cubicBezTo>
                  <a:pt x="4489" y="9382"/>
                  <a:pt x="4589" y="9258"/>
                  <a:pt x="4688" y="9178"/>
                </a:cubicBezTo>
                <a:cubicBezTo>
                  <a:pt x="4824" y="9252"/>
                  <a:pt x="4951" y="9354"/>
                  <a:pt x="5135" y="9227"/>
                </a:cubicBezTo>
                <a:cubicBezTo>
                  <a:pt x="5257" y="9143"/>
                  <a:pt x="5215" y="8992"/>
                  <a:pt x="5283" y="8930"/>
                </a:cubicBezTo>
                <a:cubicBezTo>
                  <a:pt x="5352" y="8867"/>
                  <a:pt x="5487" y="8860"/>
                  <a:pt x="5581" y="8657"/>
                </a:cubicBezTo>
                <a:cubicBezTo>
                  <a:pt x="5700" y="8398"/>
                  <a:pt x="5607" y="8502"/>
                  <a:pt x="5755" y="8285"/>
                </a:cubicBezTo>
                <a:cubicBezTo>
                  <a:pt x="5877" y="8107"/>
                  <a:pt x="5773" y="8070"/>
                  <a:pt x="5779" y="7913"/>
                </a:cubicBezTo>
                <a:cubicBezTo>
                  <a:pt x="5780" y="7892"/>
                  <a:pt x="5829" y="7764"/>
                  <a:pt x="5854" y="7689"/>
                </a:cubicBezTo>
                <a:cubicBezTo>
                  <a:pt x="5944" y="7421"/>
                  <a:pt x="5885" y="7457"/>
                  <a:pt x="5705" y="7367"/>
                </a:cubicBezTo>
                <a:cubicBezTo>
                  <a:pt x="5771" y="7287"/>
                  <a:pt x="5893" y="7246"/>
                  <a:pt x="5879" y="7094"/>
                </a:cubicBezTo>
                <a:cubicBezTo>
                  <a:pt x="5865" y="6936"/>
                  <a:pt x="5730" y="6970"/>
                  <a:pt x="5705" y="6871"/>
                </a:cubicBezTo>
                <a:cubicBezTo>
                  <a:pt x="5673" y="6744"/>
                  <a:pt x="5775" y="6617"/>
                  <a:pt x="5606" y="6524"/>
                </a:cubicBezTo>
                <a:cubicBezTo>
                  <a:pt x="5538" y="6487"/>
                  <a:pt x="5474" y="6576"/>
                  <a:pt x="5432" y="6573"/>
                </a:cubicBezTo>
                <a:cubicBezTo>
                  <a:pt x="5460" y="6494"/>
                  <a:pt x="5565" y="6473"/>
                  <a:pt x="5457" y="6325"/>
                </a:cubicBezTo>
                <a:cubicBezTo>
                  <a:pt x="5413" y="6264"/>
                  <a:pt x="5323" y="6243"/>
                  <a:pt x="5308" y="6201"/>
                </a:cubicBezTo>
                <a:cubicBezTo>
                  <a:pt x="5303" y="6188"/>
                  <a:pt x="5305" y="6078"/>
                  <a:pt x="5283" y="6028"/>
                </a:cubicBezTo>
                <a:cubicBezTo>
                  <a:pt x="5197" y="6032"/>
                  <a:pt x="5088" y="6064"/>
                  <a:pt x="5035" y="6052"/>
                </a:cubicBezTo>
                <a:cubicBezTo>
                  <a:pt x="4868" y="6014"/>
                  <a:pt x="4862" y="5970"/>
                  <a:pt x="4688" y="6077"/>
                </a:cubicBezTo>
                <a:cubicBezTo>
                  <a:pt x="4688" y="6085"/>
                  <a:pt x="4688" y="6094"/>
                  <a:pt x="4688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259884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422" y="7218"/>
                </a:moveTo>
                <a:cubicBezTo>
                  <a:pt x="602" y="7345"/>
                  <a:pt x="734" y="7456"/>
                  <a:pt x="819" y="7665"/>
                </a:cubicBezTo>
                <a:cubicBezTo>
                  <a:pt x="819" y="7673"/>
                  <a:pt x="819" y="7681"/>
                  <a:pt x="819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920" y="2482920"/>
            <a:ext cx="32220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74" y="7541"/>
                </a:moveTo>
                <a:cubicBezTo>
                  <a:pt x="186" y="7340"/>
                  <a:pt x="216" y="7072"/>
                  <a:pt x="372" y="6921"/>
                </a:cubicBezTo>
                <a:cubicBezTo>
                  <a:pt x="405" y="6913"/>
                  <a:pt x="438" y="6904"/>
                  <a:pt x="471" y="6896"/>
                </a:cubicBezTo>
                <a:cubicBezTo>
                  <a:pt x="627" y="7092"/>
                  <a:pt x="660" y="7190"/>
                  <a:pt x="620" y="7441"/>
                </a:cubicBezTo>
                <a:cubicBezTo>
                  <a:pt x="516" y="7363"/>
                  <a:pt x="604" y="7288"/>
                  <a:pt x="719" y="7293"/>
                </a:cubicBezTo>
                <a:cubicBezTo>
                  <a:pt x="845" y="7299"/>
                  <a:pt x="957" y="7362"/>
                  <a:pt x="1067" y="74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3120" y="2473200"/>
            <a:ext cx="152640" cy="1526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992" y="6921"/>
                </a:moveTo>
                <a:cubicBezTo>
                  <a:pt x="847" y="6884"/>
                  <a:pt x="803" y="7055"/>
                  <a:pt x="843" y="7193"/>
                </a:cubicBezTo>
                <a:cubicBezTo>
                  <a:pt x="913" y="7286"/>
                  <a:pt x="929" y="7319"/>
                  <a:pt x="1017" y="7293"/>
                </a:cubicBezTo>
                <a:cubicBezTo>
                  <a:pt x="1124" y="7113"/>
                  <a:pt x="1097" y="7130"/>
                  <a:pt x="992" y="6945"/>
                </a:cubicBezTo>
                <a:cubicBezTo>
                  <a:pt x="855" y="6951"/>
                  <a:pt x="1177" y="7046"/>
                  <a:pt x="1240" y="6970"/>
                </a:cubicBezTo>
                <a:cubicBezTo>
                  <a:pt x="1248" y="6937"/>
                  <a:pt x="1257" y="6904"/>
                  <a:pt x="1265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840" y="233028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868" y="6474"/>
                </a:moveTo>
                <a:cubicBezTo>
                  <a:pt x="1019" y="6614"/>
                  <a:pt x="1403" y="7042"/>
                  <a:pt x="1339" y="6846"/>
                </a:cubicBezTo>
                <a:cubicBezTo>
                  <a:pt x="1323" y="6813"/>
                  <a:pt x="1306" y="6780"/>
                  <a:pt x="1290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6840" y="2224080"/>
            <a:ext cx="14292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017" y="6747"/>
                </a:moveTo>
                <a:cubicBezTo>
                  <a:pt x="1093" y="6604"/>
                  <a:pt x="1196" y="6464"/>
                  <a:pt x="1339" y="6375"/>
                </a:cubicBezTo>
                <a:cubicBezTo>
                  <a:pt x="1398" y="6338"/>
                  <a:pt x="1424" y="6316"/>
                  <a:pt x="1339" y="6226"/>
                </a:cubicBezTo>
                <a:cubicBezTo>
                  <a:pt x="1314" y="6209"/>
                  <a:pt x="1290" y="6193"/>
                  <a:pt x="1265" y="6176"/>
                </a:cubicBezTo>
                <a:cubicBezTo>
                  <a:pt x="1064" y="6338"/>
                  <a:pt x="1242" y="6473"/>
                  <a:pt x="1364" y="6648"/>
                </a:cubicBezTo>
                <a:cubicBezTo>
                  <a:pt x="1447" y="6766"/>
                  <a:pt x="1395" y="6586"/>
                  <a:pt x="1389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5760" y="2768760"/>
            <a:ext cx="206280" cy="268200"/>
          </a:xfrm>
          <a:custGeom>
            <a:avLst/>
            <a:gdLst/>
            <a:ahLst/>
            <a:rect l="l" t="t" r="r" b="b"/>
            <a:pathLst>
              <a:path w="572" h="746">
                <a:moveTo>
                  <a:pt x="1265" y="7689"/>
                </a:moveTo>
                <a:cubicBezTo>
                  <a:pt x="1294" y="7836"/>
                  <a:pt x="1308" y="7928"/>
                  <a:pt x="1290" y="8086"/>
                </a:cubicBezTo>
                <a:cubicBezTo>
                  <a:pt x="1269" y="8270"/>
                  <a:pt x="1242" y="8434"/>
                  <a:pt x="1488" y="8434"/>
                </a:cubicBezTo>
                <a:cubicBezTo>
                  <a:pt x="1593" y="8434"/>
                  <a:pt x="1703" y="8409"/>
                  <a:pt x="1811" y="8409"/>
                </a:cubicBezTo>
                <a:cubicBezTo>
                  <a:pt x="1819" y="8409"/>
                  <a:pt x="1828" y="8409"/>
                  <a:pt x="1836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1040" y="2963880"/>
            <a:ext cx="1062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687" y="8235"/>
                </a:moveTo>
                <a:cubicBezTo>
                  <a:pt x="1763" y="8261"/>
                  <a:pt x="1836" y="8318"/>
                  <a:pt x="1910" y="8359"/>
                </a:cubicBezTo>
                <a:cubicBezTo>
                  <a:pt x="1849" y="8467"/>
                  <a:pt x="1730" y="8564"/>
                  <a:pt x="1637" y="8657"/>
                </a:cubicBezTo>
                <a:cubicBezTo>
                  <a:pt x="1614" y="8680"/>
                  <a:pt x="1603" y="8688"/>
                  <a:pt x="1637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77920" y="3456000"/>
            <a:ext cx="18900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3274" y="9599"/>
                </a:moveTo>
                <a:cubicBezTo>
                  <a:pt x="3382" y="9653"/>
                  <a:pt x="3452" y="9797"/>
                  <a:pt x="3572" y="9847"/>
                </a:cubicBezTo>
                <a:cubicBezTo>
                  <a:pt x="3661" y="9884"/>
                  <a:pt x="3737" y="9795"/>
                  <a:pt x="3795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85920" y="33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72" y="9426"/>
                </a:moveTo>
                <a:lnTo>
                  <a:pt x="3572" y="94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8280" y="358128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522" y="9947"/>
                </a:moveTo>
                <a:cubicBezTo>
                  <a:pt x="3530" y="9947"/>
                  <a:pt x="3539" y="9947"/>
                  <a:pt x="3547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28840" y="3394080"/>
            <a:ext cx="115920" cy="231840"/>
          </a:xfrm>
          <a:custGeom>
            <a:avLst/>
            <a:gdLst/>
            <a:ahLst/>
            <a:rect l="l" t="t" r="r" b="b"/>
            <a:pathLst>
              <a:path w="323" h="646">
                <a:moveTo>
                  <a:pt x="3969" y="9599"/>
                </a:moveTo>
                <a:cubicBezTo>
                  <a:pt x="3998" y="9484"/>
                  <a:pt x="4008" y="9481"/>
                  <a:pt x="4118" y="9426"/>
                </a:cubicBezTo>
                <a:cubicBezTo>
                  <a:pt x="4118" y="9526"/>
                  <a:pt x="4115" y="9603"/>
                  <a:pt x="4093" y="9699"/>
                </a:cubicBezTo>
                <a:cubicBezTo>
                  <a:pt x="4205" y="9699"/>
                  <a:pt x="4309" y="9683"/>
                  <a:pt x="4291" y="9847"/>
                </a:cubicBezTo>
                <a:cubicBezTo>
                  <a:pt x="4281" y="9944"/>
                  <a:pt x="4185" y="10019"/>
                  <a:pt x="4118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03200" y="225108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3621" y="6499"/>
                </a:moveTo>
                <a:cubicBezTo>
                  <a:pt x="3621" y="6430"/>
                  <a:pt x="3689" y="6396"/>
                  <a:pt x="3746" y="6350"/>
                </a:cubicBezTo>
                <a:cubicBezTo>
                  <a:pt x="3794" y="6311"/>
                  <a:pt x="3840" y="6265"/>
                  <a:pt x="3894" y="62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12920" y="2197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646" y="6127"/>
                </a:moveTo>
                <a:cubicBezTo>
                  <a:pt x="3646" y="6119"/>
                  <a:pt x="3646" y="6110"/>
                  <a:pt x="3646" y="61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19120" y="2367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44" y="6573"/>
                </a:moveTo>
                <a:lnTo>
                  <a:pt x="3944" y="6573"/>
                </a:lnTo>
                <a:lnTo>
                  <a:pt x="3944" y="657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6120" y="2170080"/>
            <a:ext cx="162000" cy="14292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4018" y="6102"/>
                </a:moveTo>
                <a:cubicBezTo>
                  <a:pt x="4091" y="6063"/>
                  <a:pt x="4265" y="5952"/>
                  <a:pt x="4266" y="6127"/>
                </a:cubicBezTo>
                <a:cubicBezTo>
                  <a:pt x="4258" y="6152"/>
                  <a:pt x="4250" y="6176"/>
                  <a:pt x="4242" y="6201"/>
                </a:cubicBezTo>
                <a:cubicBezTo>
                  <a:pt x="4291" y="6187"/>
                  <a:pt x="4484" y="6071"/>
                  <a:pt x="4465" y="6226"/>
                </a:cubicBezTo>
                <a:cubicBezTo>
                  <a:pt x="4449" y="6361"/>
                  <a:pt x="4371" y="6393"/>
                  <a:pt x="4266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It costs $8.00 for 3 bags of chips. How much does 1 bag c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You drive 120 miles in 2 hours. How many miles did you drive in 1 hour? (m.p.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393920" y="2027160"/>
            <a:ext cx="5695920" cy="465120"/>
          </a:xfrm>
          <a:custGeom>
            <a:avLst/>
            <a:gdLst/>
            <a:ahLst/>
            <a:rect l="l" t="t" r="r" b="b"/>
            <a:pathLst>
              <a:path w="15826" h="1291">
                <a:moveTo>
                  <a:pt x="3870" y="5829"/>
                </a:moveTo>
                <a:cubicBezTo>
                  <a:pt x="3950" y="5817"/>
                  <a:pt x="4033" y="5785"/>
                  <a:pt x="4118" y="5779"/>
                </a:cubicBezTo>
                <a:cubicBezTo>
                  <a:pt x="4330" y="5763"/>
                  <a:pt x="4526" y="5729"/>
                  <a:pt x="4738" y="5705"/>
                </a:cubicBezTo>
                <a:cubicBezTo>
                  <a:pt x="5126" y="5660"/>
                  <a:pt x="5523" y="5694"/>
                  <a:pt x="5904" y="5705"/>
                </a:cubicBezTo>
                <a:cubicBezTo>
                  <a:pt x="6275" y="5715"/>
                  <a:pt x="6654" y="5737"/>
                  <a:pt x="7020" y="5730"/>
                </a:cubicBezTo>
                <a:cubicBezTo>
                  <a:pt x="7301" y="5725"/>
                  <a:pt x="7583" y="5670"/>
                  <a:pt x="7863" y="5655"/>
                </a:cubicBezTo>
                <a:cubicBezTo>
                  <a:pt x="8060" y="5645"/>
                  <a:pt x="8268" y="5628"/>
                  <a:pt x="8458" y="5655"/>
                </a:cubicBezTo>
                <a:cubicBezTo>
                  <a:pt x="8601" y="5676"/>
                  <a:pt x="8736" y="5732"/>
                  <a:pt x="8880" y="5755"/>
                </a:cubicBezTo>
                <a:cubicBezTo>
                  <a:pt x="9001" y="5775"/>
                  <a:pt x="9130" y="5790"/>
                  <a:pt x="9252" y="5804"/>
                </a:cubicBezTo>
                <a:cubicBezTo>
                  <a:pt x="9397" y="5821"/>
                  <a:pt x="9553" y="5823"/>
                  <a:pt x="9699" y="5829"/>
                </a:cubicBezTo>
                <a:cubicBezTo>
                  <a:pt x="10200" y="5849"/>
                  <a:pt x="10690" y="5784"/>
                  <a:pt x="11187" y="5779"/>
                </a:cubicBezTo>
                <a:cubicBezTo>
                  <a:pt x="11504" y="5776"/>
                  <a:pt x="11814" y="5832"/>
                  <a:pt x="12129" y="5829"/>
                </a:cubicBezTo>
                <a:cubicBezTo>
                  <a:pt x="12321" y="5827"/>
                  <a:pt x="12507" y="5806"/>
                  <a:pt x="12700" y="5804"/>
                </a:cubicBezTo>
                <a:cubicBezTo>
                  <a:pt x="13041" y="5801"/>
                  <a:pt x="13378" y="5783"/>
                  <a:pt x="13717" y="5779"/>
                </a:cubicBezTo>
                <a:cubicBezTo>
                  <a:pt x="13902" y="5777"/>
                  <a:pt x="14080" y="5790"/>
                  <a:pt x="14263" y="5804"/>
                </a:cubicBezTo>
                <a:cubicBezTo>
                  <a:pt x="14470" y="5819"/>
                  <a:pt x="14678" y="5839"/>
                  <a:pt x="14883" y="5854"/>
                </a:cubicBezTo>
                <a:cubicBezTo>
                  <a:pt x="15040" y="5865"/>
                  <a:pt x="15198" y="5874"/>
                  <a:pt x="15354" y="5879"/>
                </a:cubicBezTo>
                <a:cubicBezTo>
                  <a:pt x="16028" y="5899"/>
                  <a:pt x="16717" y="5896"/>
                  <a:pt x="17388" y="5854"/>
                </a:cubicBezTo>
                <a:cubicBezTo>
                  <a:pt x="17568" y="5843"/>
                  <a:pt x="17730" y="5850"/>
                  <a:pt x="17909" y="5854"/>
                </a:cubicBezTo>
                <a:cubicBezTo>
                  <a:pt x="18291" y="5862"/>
                  <a:pt x="18668" y="5875"/>
                  <a:pt x="19050" y="5879"/>
                </a:cubicBezTo>
                <a:cubicBezTo>
                  <a:pt x="19265" y="5881"/>
                  <a:pt x="19480" y="5879"/>
                  <a:pt x="19695" y="5879"/>
                </a:cubicBezTo>
              </a:path>
              <a:path w="15826" h="1291">
                <a:moveTo>
                  <a:pt x="17587" y="6772"/>
                </a:moveTo>
                <a:cubicBezTo>
                  <a:pt x="17659" y="6748"/>
                  <a:pt x="17736" y="6705"/>
                  <a:pt x="17810" y="6672"/>
                </a:cubicBezTo>
              </a:path>
              <a:path w="15826" h="1291">
                <a:moveTo>
                  <a:pt x="17661" y="6424"/>
                </a:moveTo>
                <a:cubicBezTo>
                  <a:pt x="17661" y="6432"/>
                  <a:pt x="17661" y="6441"/>
                  <a:pt x="17661" y="6449"/>
                </a:cubicBezTo>
              </a:path>
              <a:path w="15826" h="1291">
                <a:moveTo>
                  <a:pt x="17835" y="6921"/>
                </a:moveTo>
                <a:lnTo>
                  <a:pt x="17835" y="6921"/>
                </a:lnTo>
              </a:path>
              <a:path w="15826" h="1291">
                <a:moveTo>
                  <a:pt x="17959" y="6424"/>
                </a:moveTo>
                <a:cubicBezTo>
                  <a:pt x="17985" y="6392"/>
                  <a:pt x="18102" y="6290"/>
                  <a:pt x="18132" y="6375"/>
                </a:cubicBezTo>
                <a:cubicBezTo>
                  <a:pt x="18154" y="6464"/>
                  <a:pt x="18170" y="6489"/>
                  <a:pt x="18107" y="6524"/>
                </a:cubicBezTo>
                <a:cubicBezTo>
                  <a:pt x="18107" y="6532"/>
                  <a:pt x="18107" y="6540"/>
                  <a:pt x="18107" y="6548"/>
                </a:cubicBezTo>
                <a:cubicBezTo>
                  <a:pt x="18224" y="6555"/>
                  <a:pt x="18275" y="6551"/>
                  <a:pt x="18355" y="6623"/>
                </a:cubicBezTo>
                <a:cubicBezTo>
                  <a:pt x="18285" y="6765"/>
                  <a:pt x="18242" y="6784"/>
                  <a:pt x="18083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70720" y="2268360"/>
            <a:ext cx="3241440" cy="857520"/>
          </a:xfrm>
          <a:custGeom>
            <a:avLst/>
            <a:gdLst/>
            <a:ahLst/>
            <a:rect l="l" t="t" r="r" b="b"/>
            <a:pathLst>
              <a:path w="9005" h="2383">
                <a:moveTo>
                  <a:pt x="16495" y="6424"/>
                </a:moveTo>
                <a:cubicBezTo>
                  <a:pt x="16303" y="6445"/>
                  <a:pt x="16182" y="6519"/>
                  <a:pt x="16024" y="6623"/>
                </a:cubicBezTo>
                <a:cubicBezTo>
                  <a:pt x="16241" y="6654"/>
                  <a:pt x="16379" y="6673"/>
                  <a:pt x="16495" y="6821"/>
                </a:cubicBezTo>
                <a:cubicBezTo>
                  <a:pt x="16283" y="6997"/>
                  <a:pt x="16231" y="7012"/>
                  <a:pt x="16098" y="6772"/>
                </a:cubicBezTo>
              </a:path>
              <a:path w="9005" h="2383">
                <a:moveTo>
                  <a:pt x="16297" y="6300"/>
                </a:moveTo>
                <a:cubicBezTo>
                  <a:pt x="16360" y="6541"/>
                  <a:pt x="16420" y="6777"/>
                  <a:pt x="16470" y="7020"/>
                </a:cubicBezTo>
              </a:path>
              <a:path w="9005" h="2383">
                <a:moveTo>
                  <a:pt x="16867" y="6424"/>
                </a:moveTo>
                <a:cubicBezTo>
                  <a:pt x="16986" y="6404"/>
                  <a:pt x="17240" y="6345"/>
                  <a:pt x="17165" y="6573"/>
                </a:cubicBezTo>
                <a:cubicBezTo>
                  <a:pt x="17140" y="6606"/>
                  <a:pt x="17115" y="6639"/>
                  <a:pt x="17090" y="6672"/>
                </a:cubicBezTo>
                <a:cubicBezTo>
                  <a:pt x="16986" y="6736"/>
                  <a:pt x="17176" y="6613"/>
                  <a:pt x="17264" y="6648"/>
                </a:cubicBezTo>
                <a:cubicBezTo>
                  <a:pt x="17565" y="6768"/>
                  <a:pt x="17301" y="7044"/>
                  <a:pt x="17115" y="7094"/>
                </a:cubicBezTo>
                <a:cubicBezTo>
                  <a:pt x="17065" y="7094"/>
                  <a:pt x="17016" y="7094"/>
                  <a:pt x="16966" y="7094"/>
                </a:cubicBezTo>
              </a:path>
              <a:path w="9005" h="2383">
                <a:moveTo>
                  <a:pt x="17066" y="6474"/>
                </a:moveTo>
                <a:cubicBezTo>
                  <a:pt x="17027" y="6474"/>
                  <a:pt x="16972" y="6437"/>
                  <a:pt x="16942" y="6449"/>
                </a:cubicBezTo>
                <a:cubicBezTo>
                  <a:pt x="16876" y="6476"/>
                  <a:pt x="16849" y="6619"/>
                  <a:pt x="16818" y="6672"/>
                </a:cubicBezTo>
                <a:cubicBezTo>
                  <a:pt x="16772" y="6751"/>
                  <a:pt x="16846" y="6796"/>
                  <a:pt x="16942" y="6796"/>
                </a:cubicBezTo>
                <a:cubicBezTo>
                  <a:pt x="16970" y="6796"/>
                  <a:pt x="17099" y="6754"/>
                  <a:pt x="17115" y="6722"/>
                </a:cubicBezTo>
                <a:cubicBezTo>
                  <a:pt x="17115" y="6714"/>
                  <a:pt x="17115" y="6705"/>
                  <a:pt x="17115" y="6697"/>
                </a:cubicBezTo>
                <a:cubicBezTo>
                  <a:pt x="17076" y="6668"/>
                  <a:pt x="17050" y="6672"/>
                  <a:pt x="17016" y="6722"/>
                </a:cubicBezTo>
                <a:cubicBezTo>
                  <a:pt x="16977" y="6781"/>
                  <a:pt x="16895" y="6943"/>
                  <a:pt x="16917" y="7020"/>
                </a:cubicBezTo>
                <a:cubicBezTo>
                  <a:pt x="16938" y="7094"/>
                  <a:pt x="17087" y="7107"/>
                  <a:pt x="17140" y="7094"/>
                </a:cubicBezTo>
                <a:cubicBezTo>
                  <a:pt x="17230" y="7050"/>
                  <a:pt x="17253" y="7037"/>
                  <a:pt x="17314" y="7020"/>
                </a:cubicBezTo>
              </a:path>
              <a:path w="9005" h="2383">
                <a:moveTo>
                  <a:pt x="15751" y="7541"/>
                </a:moveTo>
                <a:cubicBezTo>
                  <a:pt x="16218" y="7380"/>
                  <a:pt x="16672" y="7354"/>
                  <a:pt x="17165" y="7317"/>
                </a:cubicBezTo>
                <a:cubicBezTo>
                  <a:pt x="17319" y="7305"/>
                  <a:pt x="17441" y="7298"/>
                  <a:pt x="17587" y="7293"/>
                </a:cubicBezTo>
              </a:path>
              <a:path w="9005" h="2383">
                <a:moveTo>
                  <a:pt x="16718" y="7764"/>
                </a:moveTo>
                <a:cubicBezTo>
                  <a:pt x="16773" y="7752"/>
                  <a:pt x="17026" y="7631"/>
                  <a:pt x="17041" y="7764"/>
                </a:cubicBezTo>
                <a:cubicBezTo>
                  <a:pt x="17051" y="7851"/>
                  <a:pt x="16992" y="7887"/>
                  <a:pt x="16942" y="7938"/>
                </a:cubicBezTo>
                <a:cubicBezTo>
                  <a:pt x="17076" y="7938"/>
                  <a:pt x="17168" y="7942"/>
                  <a:pt x="17140" y="8111"/>
                </a:cubicBezTo>
                <a:cubicBezTo>
                  <a:pt x="17118" y="8245"/>
                  <a:pt x="16747" y="8359"/>
                  <a:pt x="16718" y="8210"/>
                </a:cubicBezTo>
                <a:cubicBezTo>
                  <a:pt x="16735" y="8177"/>
                  <a:pt x="16751" y="8144"/>
                  <a:pt x="16768" y="8111"/>
                </a:cubicBezTo>
              </a:path>
              <a:path w="9005" h="2383">
                <a:moveTo>
                  <a:pt x="17413" y="7590"/>
                </a:moveTo>
                <a:cubicBezTo>
                  <a:pt x="17487" y="7775"/>
                  <a:pt x="17536" y="7967"/>
                  <a:pt x="17587" y="8161"/>
                </a:cubicBezTo>
                <a:cubicBezTo>
                  <a:pt x="17622" y="8003"/>
                  <a:pt x="17660" y="7833"/>
                  <a:pt x="17859" y="7863"/>
                </a:cubicBezTo>
                <a:cubicBezTo>
                  <a:pt x="17884" y="7880"/>
                  <a:pt x="17909" y="7896"/>
                  <a:pt x="17934" y="7913"/>
                </a:cubicBezTo>
                <a:cubicBezTo>
                  <a:pt x="17934" y="8090"/>
                  <a:pt x="17847" y="8258"/>
                  <a:pt x="17611" y="8186"/>
                </a:cubicBezTo>
                <a:cubicBezTo>
                  <a:pt x="17578" y="8161"/>
                  <a:pt x="17545" y="8136"/>
                  <a:pt x="17512" y="8111"/>
                </a:cubicBezTo>
              </a:path>
              <a:path w="9005" h="2383">
                <a:moveTo>
                  <a:pt x="18331" y="7913"/>
                </a:moveTo>
                <a:cubicBezTo>
                  <a:pt x="18163" y="7871"/>
                  <a:pt x="18121" y="7943"/>
                  <a:pt x="18083" y="8086"/>
                </a:cubicBezTo>
                <a:cubicBezTo>
                  <a:pt x="18253" y="8211"/>
                  <a:pt x="18265" y="8115"/>
                  <a:pt x="18355" y="7962"/>
                </a:cubicBezTo>
                <a:cubicBezTo>
                  <a:pt x="18415" y="7860"/>
                  <a:pt x="18413" y="8163"/>
                  <a:pt x="18529" y="8186"/>
                </a:cubicBezTo>
              </a:path>
              <a:path w="9005" h="2383">
                <a:moveTo>
                  <a:pt x="18604" y="7863"/>
                </a:moveTo>
                <a:cubicBezTo>
                  <a:pt x="18569" y="7936"/>
                  <a:pt x="18542" y="7984"/>
                  <a:pt x="18529" y="8062"/>
                </a:cubicBezTo>
                <a:cubicBezTo>
                  <a:pt x="18613" y="8041"/>
                  <a:pt x="18642" y="7901"/>
                  <a:pt x="18703" y="7962"/>
                </a:cubicBezTo>
                <a:cubicBezTo>
                  <a:pt x="18859" y="8119"/>
                  <a:pt x="19005" y="8425"/>
                  <a:pt x="18802" y="8607"/>
                </a:cubicBezTo>
                <a:cubicBezTo>
                  <a:pt x="18558" y="8825"/>
                  <a:pt x="18482" y="8617"/>
                  <a:pt x="18380" y="8458"/>
                </a:cubicBezTo>
              </a:path>
              <a:path w="9005" h="2383">
                <a:moveTo>
                  <a:pt x="19124" y="7665"/>
                </a:moveTo>
                <a:cubicBezTo>
                  <a:pt x="19066" y="7723"/>
                  <a:pt x="19058" y="7731"/>
                  <a:pt x="19025" y="7764"/>
                </a:cubicBezTo>
                <a:cubicBezTo>
                  <a:pt x="19154" y="7800"/>
                  <a:pt x="19227" y="7840"/>
                  <a:pt x="19298" y="7938"/>
                </a:cubicBezTo>
                <a:cubicBezTo>
                  <a:pt x="19150" y="8071"/>
                  <a:pt x="19144" y="8025"/>
                  <a:pt x="18926" y="7987"/>
                </a:cubicBezTo>
              </a:path>
              <a:path w="9005" h="2383">
                <a:moveTo>
                  <a:pt x="17314" y="7342"/>
                </a:moveTo>
                <a:cubicBezTo>
                  <a:pt x="17382" y="7303"/>
                  <a:pt x="17529" y="7280"/>
                  <a:pt x="17636" y="7268"/>
                </a:cubicBezTo>
                <a:cubicBezTo>
                  <a:pt x="17984" y="7230"/>
                  <a:pt x="18331" y="7261"/>
                  <a:pt x="18678" y="7218"/>
                </a:cubicBezTo>
                <a:cubicBezTo>
                  <a:pt x="18775" y="7206"/>
                  <a:pt x="18835" y="7197"/>
                  <a:pt x="18926" y="7193"/>
                </a:cubicBezTo>
                <a:cubicBezTo>
                  <a:pt x="18934" y="7193"/>
                  <a:pt x="18943" y="7193"/>
                  <a:pt x="18951" y="7193"/>
                </a:cubicBezTo>
              </a:path>
              <a:path w="9005" h="2383">
                <a:moveTo>
                  <a:pt x="20265" y="7218"/>
                </a:moveTo>
                <a:cubicBezTo>
                  <a:pt x="20230" y="7206"/>
                  <a:pt x="20225" y="7193"/>
                  <a:pt x="20166" y="7193"/>
                </a:cubicBezTo>
                <a:cubicBezTo>
                  <a:pt x="20316" y="7175"/>
                  <a:pt x="20464" y="7165"/>
                  <a:pt x="20613" y="7144"/>
                </a:cubicBezTo>
              </a:path>
              <a:path w="9005" h="2383">
                <a:moveTo>
                  <a:pt x="20141" y="7541"/>
                </a:moveTo>
                <a:cubicBezTo>
                  <a:pt x="20294" y="7503"/>
                  <a:pt x="20429" y="7466"/>
                  <a:pt x="20588" y="7466"/>
                </a:cubicBezTo>
              </a:path>
              <a:path w="9005" h="2383">
                <a:moveTo>
                  <a:pt x="21406" y="7293"/>
                </a:moveTo>
                <a:cubicBezTo>
                  <a:pt x="21744" y="7259"/>
                  <a:pt x="22081" y="7221"/>
                  <a:pt x="22423" y="7193"/>
                </a:cubicBezTo>
                <a:cubicBezTo>
                  <a:pt x="22967" y="7148"/>
                  <a:pt x="23518" y="7142"/>
                  <a:pt x="24061" y="7094"/>
                </a:cubicBezTo>
                <a:cubicBezTo>
                  <a:pt x="24178" y="7084"/>
                  <a:pt x="24287" y="7069"/>
                  <a:pt x="24408" y="7069"/>
                </a:cubicBezTo>
                <a:cubicBezTo>
                  <a:pt x="24433" y="7069"/>
                  <a:pt x="24457" y="7069"/>
                  <a:pt x="24482" y="7069"/>
                </a:cubicBezTo>
              </a:path>
              <a:path w="9005" h="2383">
                <a:moveTo>
                  <a:pt x="23068" y="7367"/>
                </a:moveTo>
                <a:cubicBezTo>
                  <a:pt x="22995" y="7316"/>
                  <a:pt x="23044" y="7683"/>
                  <a:pt x="23044" y="7689"/>
                </a:cubicBezTo>
                <a:cubicBezTo>
                  <a:pt x="23045" y="7705"/>
                  <a:pt x="23046" y="8021"/>
                  <a:pt x="23093" y="8037"/>
                </a:cubicBezTo>
              </a:path>
              <a:path w="9005" h="2383">
                <a:moveTo>
                  <a:pt x="23614" y="7516"/>
                </a:moveTo>
                <a:cubicBezTo>
                  <a:pt x="23595" y="7460"/>
                  <a:pt x="23603" y="7525"/>
                  <a:pt x="23589" y="7441"/>
                </a:cubicBezTo>
                <a:cubicBezTo>
                  <a:pt x="23521" y="7398"/>
                  <a:pt x="23582" y="7598"/>
                  <a:pt x="23589" y="7640"/>
                </a:cubicBezTo>
                <a:cubicBezTo>
                  <a:pt x="23609" y="7741"/>
                  <a:pt x="23607" y="7761"/>
                  <a:pt x="23639" y="7813"/>
                </a:cubicBezTo>
                <a:cubicBezTo>
                  <a:pt x="23662" y="7723"/>
                  <a:pt x="23780" y="7618"/>
                  <a:pt x="23887" y="7640"/>
                </a:cubicBezTo>
                <a:cubicBezTo>
                  <a:pt x="24121" y="7687"/>
                  <a:pt x="23939" y="7932"/>
                  <a:pt x="23812" y="7962"/>
                </a:cubicBezTo>
                <a:cubicBezTo>
                  <a:pt x="23654" y="7999"/>
                  <a:pt x="23654" y="7962"/>
                  <a:pt x="23664" y="7863"/>
                </a:cubicBezTo>
              </a:path>
              <a:path w="9005" h="2383">
                <a:moveTo>
                  <a:pt x="24135" y="7516"/>
                </a:moveTo>
                <a:cubicBezTo>
                  <a:pt x="24053" y="7557"/>
                  <a:pt x="23849" y="7738"/>
                  <a:pt x="24036" y="7838"/>
                </a:cubicBezTo>
                <a:cubicBezTo>
                  <a:pt x="24202" y="7927"/>
                  <a:pt x="24209" y="7696"/>
                  <a:pt x="24209" y="7615"/>
                </a:cubicBezTo>
                <a:cubicBezTo>
                  <a:pt x="24228" y="7727"/>
                  <a:pt x="24269" y="7749"/>
                  <a:pt x="24358" y="7813"/>
                </a:cubicBezTo>
              </a:path>
              <a:path w="9005" h="2383">
                <a:moveTo>
                  <a:pt x="24631" y="7441"/>
                </a:moveTo>
                <a:cubicBezTo>
                  <a:pt x="24527" y="7510"/>
                  <a:pt x="24509" y="7540"/>
                  <a:pt x="24482" y="7665"/>
                </a:cubicBezTo>
                <a:cubicBezTo>
                  <a:pt x="24549" y="7761"/>
                  <a:pt x="24581" y="7577"/>
                  <a:pt x="24631" y="7565"/>
                </a:cubicBezTo>
                <a:cubicBezTo>
                  <a:pt x="24833" y="7515"/>
                  <a:pt x="24732" y="7978"/>
                  <a:pt x="24681" y="8037"/>
                </a:cubicBezTo>
                <a:cubicBezTo>
                  <a:pt x="24561" y="8175"/>
                  <a:pt x="24419" y="8104"/>
                  <a:pt x="24284" y="80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05800" y="785880"/>
            <a:ext cx="1384200" cy="1724040"/>
          </a:xfrm>
          <a:custGeom>
            <a:avLst/>
            <a:gdLst/>
            <a:ahLst/>
            <a:rect l="l" t="t" r="r" b="b"/>
            <a:pathLst>
              <a:path w="3846" h="4788">
                <a:moveTo>
                  <a:pt x="23490" y="3299"/>
                </a:moveTo>
                <a:cubicBezTo>
                  <a:pt x="23443" y="3204"/>
                  <a:pt x="23234" y="3239"/>
                  <a:pt x="23143" y="3274"/>
                </a:cubicBezTo>
                <a:cubicBezTo>
                  <a:pt x="23126" y="3291"/>
                  <a:pt x="23110" y="3307"/>
                  <a:pt x="23093" y="3324"/>
                </a:cubicBezTo>
                <a:cubicBezTo>
                  <a:pt x="23152" y="3394"/>
                  <a:pt x="23490" y="3526"/>
                  <a:pt x="23490" y="3621"/>
                </a:cubicBezTo>
                <a:cubicBezTo>
                  <a:pt x="23473" y="3638"/>
                  <a:pt x="23457" y="3654"/>
                  <a:pt x="23440" y="3671"/>
                </a:cubicBezTo>
                <a:cubicBezTo>
                  <a:pt x="23224" y="3750"/>
                  <a:pt x="23357" y="3532"/>
                  <a:pt x="23416" y="3398"/>
                </a:cubicBezTo>
                <a:cubicBezTo>
                  <a:pt x="23462" y="3295"/>
                  <a:pt x="23504" y="3265"/>
                  <a:pt x="23391" y="3249"/>
                </a:cubicBezTo>
              </a:path>
              <a:path w="3846" h="4788">
                <a:moveTo>
                  <a:pt x="22920" y="3870"/>
                </a:moveTo>
                <a:cubicBezTo>
                  <a:pt x="22894" y="3709"/>
                  <a:pt x="22858" y="3556"/>
                  <a:pt x="22820" y="3398"/>
                </a:cubicBezTo>
                <a:cubicBezTo>
                  <a:pt x="22798" y="3305"/>
                  <a:pt x="22779" y="3255"/>
                  <a:pt x="22746" y="3175"/>
                </a:cubicBezTo>
                <a:cubicBezTo>
                  <a:pt x="22967" y="3131"/>
                  <a:pt x="23261" y="3102"/>
                  <a:pt x="23490" y="3051"/>
                </a:cubicBezTo>
                <a:cubicBezTo>
                  <a:pt x="23711" y="3002"/>
                  <a:pt x="23976" y="2877"/>
                  <a:pt x="24209" y="2877"/>
                </a:cubicBezTo>
                <a:cubicBezTo>
                  <a:pt x="24234" y="2877"/>
                  <a:pt x="24242" y="2877"/>
                  <a:pt x="24234" y="2902"/>
                </a:cubicBezTo>
              </a:path>
              <a:path w="3846" h="4788">
                <a:moveTo>
                  <a:pt x="22151" y="3274"/>
                </a:moveTo>
                <a:cubicBezTo>
                  <a:pt x="22221" y="3260"/>
                  <a:pt x="22327" y="3157"/>
                  <a:pt x="22399" y="3200"/>
                </a:cubicBezTo>
                <a:cubicBezTo>
                  <a:pt x="22455" y="3234"/>
                  <a:pt x="22343" y="3371"/>
                  <a:pt x="22324" y="3398"/>
                </a:cubicBezTo>
                <a:cubicBezTo>
                  <a:pt x="22342" y="3453"/>
                  <a:pt x="22346" y="3367"/>
                  <a:pt x="22448" y="3423"/>
                </a:cubicBezTo>
                <a:cubicBezTo>
                  <a:pt x="22625" y="3520"/>
                  <a:pt x="22414" y="3644"/>
                  <a:pt x="22324" y="3671"/>
                </a:cubicBezTo>
                <a:cubicBezTo>
                  <a:pt x="22318" y="3673"/>
                  <a:pt x="22233" y="3671"/>
                  <a:pt x="22299" y="3671"/>
                </a:cubicBezTo>
              </a:path>
              <a:path w="3846" h="4788">
                <a:moveTo>
                  <a:pt x="22969" y="2629"/>
                </a:moveTo>
                <a:cubicBezTo>
                  <a:pt x="22947" y="2673"/>
                  <a:pt x="22944" y="2684"/>
                  <a:pt x="22920" y="2704"/>
                </a:cubicBezTo>
                <a:cubicBezTo>
                  <a:pt x="22928" y="2665"/>
                  <a:pt x="22951" y="2567"/>
                  <a:pt x="23019" y="2604"/>
                </a:cubicBezTo>
                <a:cubicBezTo>
                  <a:pt x="23175" y="2687"/>
                  <a:pt x="23049" y="2894"/>
                  <a:pt x="22969" y="2977"/>
                </a:cubicBezTo>
                <a:cubicBezTo>
                  <a:pt x="22871" y="3079"/>
                  <a:pt x="22839" y="3015"/>
                  <a:pt x="22796" y="2927"/>
                </a:cubicBezTo>
                <a:cubicBezTo>
                  <a:pt x="22891" y="2878"/>
                  <a:pt x="22973" y="2855"/>
                  <a:pt x="23044" y="2927"/>
                </a:cubicBezTo>
                <a:cubicBezTo>
                  <a:pt x="23052" y="2935"/>
                  <a:pt x="23060" y="2944"/>
                  <a:pt x="23068" y="2952"/>
                </a:cubicBezTo>
              </a:path>
              <a:path w="3846" h="4788">
                <a:moveTo>
                  <a:pt x="23316" y="3820"/>
                </a:moveTo>
                <a:cubicBezTo>
                  <a:pt x="23344" y="3932"/>
                  <a:pt x="23290" y="4067"/>
                  <a:pt x="23267" y="4192"/>
                </a:cubicBezTo>
                <a:cubicBezTo>
                  <a:pt x="23267" y="4200"/>
                  <a:pt x="23267" y="4209"/>
                  <a:pt x="23267" y="4217"/>
                </a:cubicBezTo>
                <a:cubicBezTo>
                  <a:pt x="23433" y="4239"/>
                  <a:pt x="23528" y="4230"/>
                  <a:pt x="23614" y="4068"/>
                </a:cubicBezTo>
                <a:cubicBezTo>
                  <a:pt x="23614" y="4040"/>
                  <a:pt x="23612" y="4029"/>
                  <a:pt x="23589" y="4018"/>
                </a:cubicBezTo>
                <a:cubicBezTo>
                  <a:pt x="23450" y="3993"/>
                  <a:pt x="23429" y="4041"/>
                  <a:pt x="23366" y="4167"/>
                </a:cubicBezTo>
              </a:path>
              <a:path w="3846" h="4788">
                <a:moveTo>
                  <a:pt x="22969" y="4043"/>
                </a:moveTo>
                <a:cubicBezTo>
                  <a:pt x="23003" y="4009"/>
                  <a:pt x="23024" y="4001"/>
                  <a:pt x="23068" y="4018"/>
                </a:cubicBezTo>
              </a:path>
              <a:path w="3846" h="4788">
                <a:moveTo>
                  <a:pt x="23093" y="4316"/>
                </a:moveTo>
                <a:cubicBezTo>
                  <a:pt x="23248" y="4274"/>
                  <a:pt x="23425" y="4271"/>
                  <a:pt x="23589" y="4242"/>
                </a:cubicBezTo>
                <a:cubicBezTo>
                  <a:pt x="23665" y="4228"/>
                  <a:pt x="23738" y="4205"/>
                  <a:pt x="23812" y="4192"/>
                </a:cubicBezTo>
              </a:path>
              <a:path w="3846" h="4788">
                <a:moveTo>
                  <a:pt x="23416" y="4465"/>
                </a:moveTo>
                <a:cubicBezTo>
                  <a:pt x="23399" y="4481"/>
                  <a:pt x="23383" y="4498"/>
                  <a:pt x="23366" y="4514"/>
                </a:cubicBezTo>
                <a:cubicBezTo>
                  <a:pt x="23380" y="4460"/>
                  <a:pt x="23454" y="4373"/>
                  <a:pt x="23515" y="4440"/>
                </a:cubicBezTo>
                <a:cubicBezTo>
                  <a:pt x="23666" y="4608"/>
                  <a:pt x="23505" y="4753"/>
                  <a:pt x="23391" y="4862"/>
                </a:cubicBezTo>
                <a:cubicBezTo>
                  <a:pt x="23361" y="4892"/>
                  <a:pt x="23347" y="4897"/>
                  <a:pt x="23316" y="4862"/>
                </a:cubicBezTo>
                <a:cubicBezTo>
                  <a:pt x="23316" y="4777"/>
                  <a:pt x="23322" y="4734"/>
                  <a:pt x="23440" y="4738"/>
                </a:cubicBezTo>
                <a:cubicBezTo>
                  <a:pt x="23479" y="4739"/>
                  <a:pt x="23596" y="4810"/>
                  <a:pt x="23614" y="4837"/>
                </a:cubicBezTo>
                <a:cubicBezTo>
                  <a:pt x="23614" y="4862"/>
                  <a:pt x="23614" y="4870"/>
                  <a:pt x="23639" y="4862"/>
                </a:cubicBezTo>
              </a:path>
              <a:path w="3846" h="4788">
                <a:moveTo>
                  <a:pt x="23589" y="3646"/>
                </a:moveTo>
                <a:cubicBezTo>
                  <a:pt x="23581" y="3646"/>
                  <a:pt x="23572" y="3646"/>
                  <a:pt x="23564" y="3646"/>
                </a:cubicBezTo>
              </a:path>
              <a:path w="3846" h="4788">
                <a:moveTo>
                  <a:pt x="23788" y="3324"/>
                </a:moveTo>
                <a:cubicBezTo>
                  <a:pt x="23781" y="3365"/>
                  <a:pt x="23725" y="3516"/>
                  <a:pt x="23763" y="3547"/>
                </a:cubicBezTo>
                <a:cubicBezTo>
                  <a:pt x="23876" y="3638"/>
                  <a:pt x="24006" y="3485"/>
                  <a:pt x="23986" y="3373"/>
                </a:cubicBezTo>
                <a:cubicBezTo>
                  <a:pt x="23975" y="3310"/>
                  <a:pt x="23856" y="3269"/>
                  <a:pt x="23812" y="3249"/>
                </a:cubicBezTo>
              </a:path>
              <a:path w="3846" h="4788">
                <a:moveTo>
                  <a:pt x="23366" y="2927"/>
                </a:moveTo>
                <a:cubicBezTo>
                  <a:pt x="23366" y="2919"/>
                  <a:pt x="23366" y="2910"/>
                  <a:pt x="23366" y="2902"/>
                </a:cubicBezTo>
              </a:path>
              <a:path w="3846" h="4788">
                <a:moveTo>
                  <a:pt x="23862" y="3671"/>
                </a:moveTo>
                <a:cubicBezTo>
                  <a:pt x="23862" y="3840"/>
                  <a:pt x="23873" y="4001"/>
                  <a:pt x="23887" y="4167"/>
                </a:cubicBezTo>
                <a:cubicBezTo>
                  <a:pt x="23887" y="4225"/>
                  <a:pt x="23887" y="4233"/>
                  <a:pt x="23887" y="4266"/>
                </a:cubicBezTo>
              </a:path>
              <a:path w="3846" h="4788">
                <a:moveTo>
                  <a:pt x="23986" y="4465"/>
                </a:moveTo>
                <a:cubicBezTo>
                  <a:pt x="23963" y="4395"/>
                  <a:pt x="23874" y="4493"/>
                  <a:pt x="23862" y="4539"/>
                </a:cubicBezTo>
                <a:cubicBezTo>
                  <a:pt x="23842" y="4613"/>
                  <a:pt x="23876" y="4866"/>
                  <a:pt x="24011" y="4738"/>
                </a:cubicBezTo>
                <a:cubicBezTo>
                  <a:pt x="24094" y="4660"/>
                  <a:pt x="24011" y="4535"/>
                  <a:pt x="23986" y="4465"/>
                </a:cubicBezTo>
                <a:cubicBezTo>
                  <a:pt x="23986" y="4440"/>
                  <a:pt x="23986" y="4432"/>
                  <a:pt x="23986" y="4415"/>
                </a:cubicBezTo>
              </a:path>
              <a:path w="3846" h="4788">
                <a:moveTo>
                  <a:pt x="23490" y="2555"/>
                </a:moveTo>
                <a:cubicBezTo>
                  <a:pt x="23495" y="2541"/>
                  <a:pt x="23526" y="2482"/>
                  <a:pt x="23515" y="2530"/>
                </a:cubicBezTo>
                <a:cubicBezTo>
                  <a:pt x="23507" y="2564"/>
                  <a:pt x="23474" y="2753"/>
                  <a:pt x="23515" y="2778"/>
                </a:cubicBezTo>
                <a:cubicBezTo>
                  <a:pt x="23596" y="2827"/>
                  <a:pt x="23710" y="2770"/>
                  <a:pt x="23763" y="2704"/>
                </a:cubicBezTo>
                <a:cubicBezTo>
                  <a:pt x="23763" y="2696"/>
                  <a:pt x="23763" y="2687"/>
                  <a:pt x="23763" y="2679"/>
                </a:cubicBezTo>
                <a:cubicBezTo>
                  <a:pt x="23718" y="2690"/>
                  <a:pt x="23693" y="2704"/>
                  <a:pt x="23639" y="2704"/>
                </a:cubicBezTo>
                <a:cubicBezTo>
                  <a:pt x="23639" y="2745"/>
                  <a:pt x="23639" y="2787"/>
                  <a:pt x="23639" y="2828"/>
                </a:cubicBezTo>
              </a:path>
              <a:path w="3846" h="4788">
                <a:moveTo>
                  <a:pt x="23564" y="4961"/>
                </a:moveTo>
                <a:cubicBezTo>
                  <a:pt x="23564" y="5065"/>
                  <a:pt x="23532" y="5276"/>
                  <a:pt x="23589" y="5333"/>
                </a:cubicBezTo>
              </a:path>
              <a:path w="3846" h="4788">
                <a:moveTo>
                  <a:pt x="24011" y="4936"/>
                </a:moveTo>
                <a:cubicBezTo>
                  <a:pt x="23954" y="4936"/>
                  <a:pt x="23933" y="4941"/>
                  <a:pt x="23912" y="4986"/>
                </a:cubicBezTo>
                <a:cubicBezTo>
                  <a:pt x="23912" y="5080"/>
                  <a:pt x="23995" y="5052"/>
                  <a:pt x="24011" y="5159"/>
                </a:cubicBezTo>
                <a:cubicBezTo>
                  <a:pt x="24026" y="5256"/>
                  <a:pt x="23984" y="5248"/>
                  <a:pt x="23912" y="5283"/>
                </a:cubicBezTo>
                <a:cubicBezTo>
                  <a:pt x="23912" y="5164"/>
                  <a:pt x="23986" y="5068"/>
                  <a:pt x="23986" y="4961"/>
                </a:cubicBezTo>
                <a:cubicBezTo>
                  <a:pt x="23978" y="4961"/>
                  <a:pt x="23969" y="4961"/>
                  <a:pt x="23961" y="4961"/>
                </a:cubicBezTo>
              </a:path>
              <a:path w="3846" h="4788">
                <a:moveTo>
                  <a:pt x="23093" y="5234"/>
                </a:moveTo>
                <a:cubicBezTo>
                  <a:pt x="23162" y="5195"/>
                  <a:pt x="23236" y="5179"/>
                  <a:pt x="23316" y="5159"/>
                </a:cubicBezTo>
              </a:path>
              <a:path w="3846" h="4788">
                <a:moveTo>
                  <a:pt x="23515" y="5482"/>
                </a:moveTo>
                <a:cubicBezTo>
                  <a:pt x="23691" y="5457"/>
                  <a:pt x="23860" y="5385"/>
                  <a:pt x="24036" y="5358"/>
                </a:cubicBezTo>
                <a:cubicBezTo>
                  <a:pt x="24087" y="5350"/>
                  <a:pt x="24197" y="5319"/>
                  <a:pt x="24209" y="5358"/>
                </a:cubicBezTo>
              </a:path>
              <a:path w="3846" h="4788">
                <a:moveTo>
                  <a:pt x="23986" y="5507"/>
                </a:moveTo>
                <a:cubicBezTo>
                  <a:pt x="24032" y="5498"/>
                  <a:pt x="24067" y="5479"/>
                  <a:pt x="24110" y="5457"/>
                </a:cubicBezTo>
                <a:cubicBezTo>
                  <a:pt x="24095" y="5588"/>
                  <a:pt x="24007" y="5639"/>
                  <a:pt x="23961" y="5755"/>
                </a:cubicBezTo>
                <a:cubicBezTo>
                  <a:pt x="23961" y="5771"/>
                  <a:pt x="23961" y="5788"/>
                  <a:pt x="23961" y="5804"/>
                </a:cubicBezTo>
                <a:cubicBezTo>
                  <a:pt x="24031" y="5804"/>
                  <a:pt x="24099" y="5791"/>
                  <a:pt x="24160" y="5755"/>
                </a:cubicBezTo>
                <a:cubicBezTo>
                  <a:pt x="24182" y="5733"/>
                  <a:pt x="24187" y="5724"/>
                  <a:pt x="24209" y="5730"/>
                </a:cubicBezTo>
              </a:path>
              <a:path w="3846" h="4788">
                <a:moveTo>
                  <a:pt x="24284" y="3175"/>
                </a:moveTo>
                <a:cubicBezTo>
                  <a:pt x="24178" y="3196"/>
                  <a:pt x="24171" y="3280"/>
                  <a:pt x="24135" y="3373"/>
                </a:cubicBezTo>
                <a:cubicBezTo>
                  <a:pt x="24260" y="3427"/>
                  <a:pt x="24291" y="3376"/>
                  <a:pt x="24333" y="3249"/>
                </a:cubicBezTo>
                <a:cubicBezTo>
                  <a:pt x="24333" y="3225"/>
                  <a:pt x="24333" y="3216"/>
                  <a:pt x="24333" y="3200"/>
                </a:cubicBezTo>
              </a:path>
              <a:path w="3846" h="4788">
                <a:moveTo>
                  <a:pt x="24209" y="3597"/>
                </a:moveTo>
                <a:cubicBezTo>
                  <a:pt x="24239" y="3649"/>
                  <a:pt x="24277" y="3779"/>
                  <a:pt x="24284" y="3870"/>
                </a:cubicBezTo>
                <a:cubicBezTo>
                  <a:pt x="24299" y="4063"/>
                  <a:pt x="24316" y="4299"/>
                  <a:pt x="24309" y="4490"/>
                </a:cubicBezTo>
                <a:cubicBezTo>
                  <a:pt x="24304" y="4622"/>
                  <a:pt x="24284" y="4752"/>
                  <a:pt x="24284" y="4887"/>
                </a:cubicBezTo>
                <a:cubicBezTo>
                  <a:pt x="24284" y="4978"/>
                  <a:pt x="24290" y="5071"/>
                  <a:pt x="24309" y="5159"/>
                </a:cubicBezTo>
                <a:cubicBezTo>
                  <a:pt x="24327" y="5244"/>
                  <a:pt x="24305" y="5354"/>
                  <a:pt x="24333" y="5432"/>
                </a:cubicBezTo>
                <a:cubicBezTo>
                  <a:pt x="24341" y="5432"/>
                  <a:pt x="24350" y="5432"/>
                  <a:pt x="24358" y="5432"/>
                </a:cubicBezTo>
              </a:path>
              <a:path w="3846" h="4788">
                <a:moveTo>
                  <a:pt x="24408" y="5507"/>
                </a:moveTo>
                <a:cubicBezTo>
                  <a:pt x="24326" y="5539"/>
                  <a:pt x="24295" y="5611"/>
                  <a:pt x="24309" y="5705"/>
                </a:cubicBezTo>
                <a:cubicBezTo>
                  <a:pt x="24329" y="5766"/>
                  <a:pt x="24327" y="5780"/>
                  <a:pt x="24358" y="5804"/>
                </a:cubicBezTo>
                <a:cubicBezTo>
                  <a:pt x="24466" y="5774"/>
                  <a:pt x="24546" y="5733"/>
                  <a:pt x="24532" y="5606"/>
                </a:cubicBezTo>
                <a:cubicBezTo>
                  <a:pt x="24521" y="5503"/>
                  <a:pt x="24462" y="5493"/>
                  <a:pt x="24383" y="5457"/>
                </a:cubicBezTo>
              </a:path>
              <a:path w="3846" h="4788">
                <a:moveTo>
                  <a:pt x="24085" y="2356"/>
                </a:moveTo>
                <a:cubicBezTo>
                  <a:pt x="24083" y="2358"/>
                  <a:pt x="24043" y="2572"/>
                  <a:pt x="24036" y="2654"/>
                </a:cubicBezTo>
                <a:cubicBezTo>
                  <a:pt x="24036" y="2728"/>
                  <a:pt x="24036" y="2737"/>
                  <a:pt x="24036" y="2778"/>
                </a:cubicBezTo>
                <a:cubicBezTo>
                  <a:pt x="24115" y="2778"/>
                  <a:pt x="24168" y="2791"/>
                  <a:pt x="24234" y="2729"/>
                </a:cubicBezTo>
                <a:cubicBezTo>
                  <a:pt x="24277" y="2689"/>
                  <a:pt x="24296" y="2631"/>
                  <a:pt x="24309" y="2580"/>
                </a:cubicBezTo>
                <a:cubicBezTo>
                  <a:pt x="24270" y="2521"/>
                  <a:pt x="24194" y="2553"/>
                  <a:pt x="24160" y="2629"/>
                </a:cubicBezTo>
                <a:cubicBezTo>
                  <a:pt x="24117" y="2725"/>
                  <a:pt x="24141" y="2752"/>
                  <a:pt x="24160" y="2828"/>
                </a:cubicBezTo>
              </a:path>
              <a:path w="3846" h="4788">
                <a:moveTo>
                  <a:pt x="24160" y="5779"/>
                </a:moveTo>
                <a:cubicBezTo>
                  <a:pt x="24216" y="5849"/>
                  <a:pt x="24239" y="5940"/>
                  <a:pt x="24259" y="6028"/>
                </a:cubicBezTo>
                <a:cubicBezTo>
                  <a:pt x="24259" y="6056"/>
                  <a:pt x="24262" y="6066"/>
                  <a:pt x="24284" y="6077"/>
                </a:cubicBezTo>
              </a:path>
              <a:path w="3846" h="4788">
                <a:moveTo>
                  <a:pt x="24581" y="5779"/>
                </a:moveTo>
                <a:cubicBezTo>
                  <a:pt x="24511" y="5807"/>
                  <a:pt x="24505" y="5806"/>
                  <a:pt x="24457" y="5854"/>
                </a:cubicBezTo>
                <a:cubicBezTo>
                  <a:pt x="24497" y="5921"/>
                  <a:pt x="24617" y="5901"/>
                  <a:pt x="24631" y="5978"/>
                </a:cubicBezTo>
                <a:cubicBezTo>
                  <a:pt x="24611" y="6038"/>
                  <a:pt x="24612" y="6053"/>
                  <a:pt x="24581" y="6077"/>
                </a:cubicBezTo>
                <a:cubicBezTo>
                  <a:pt x="24516" y="6055"/>
                  <a:pt x="24570" y="5962"/>
                  <a:pt x="24581" y="5904"/>
                </a:cubicBezTo>
                <a:cubicBezTo>
                  <a:pt x="24581" y="5879"/>
                  <a:pt x="24581" y="5871"/>
                  <a:pt x="24581" y="5854"/>
                </a:cubicBezTo>
              </a:path>
              <a:path w="3846" h="4788">
                <a:moveTo>
                  <a:pt x="23887" y="5978"/>
                </a:moveTo>
                <a:cubicBezTo>
                  <a:pt x="23908" y="5962"/>
                  <a:pt x="23983" y="5944"/>
                  <a:pt x="24036" y="5928"/>
                </a:cubicBezTo>
              </a:path>
              <a:path w="3846" h="4788">
                <a:moveTo>
                  <a:pt x="23986" y="6201"/>
                </a:moveTo>
                <a:cubicBezTo>
                  <a:pt x="24223" y="6147"/>
                  <a:pt x="24437" y="6107"/>
                  <a:pt x="24681" y="6102"/>
                </a:cubicBezTo>
                <a:cubicBezTo>
                  <a:pt x="24739" y="6102"/>
                  <a:pt x="24747" y="6102"/>
                  <a:pt x="24780" y="6102"/>
                </a:cubicBezTo>
              </a:path>
              <a:path w="3846" h="4788">
                <a:moveTo>
                  <a:pt x="24581" y="6276"/>
                </a:moveTo>
                <a:cubicBezTo>
                  <a:pt x="24630" y="6243"/>
                  <a:pt x="24670" y="6226"/>
                  <a:pt x="24730" y="6226"/>
                </a:cubicBezTo>
                <a:cubicBezTo>
                  <a:pt x="24691" y="6319"/>
                  <a:pt x="24615" y="6385"/>
                  <a:pt x="24581" y="6474"/>
                </a:cubicBezTo>
                <a:cubicBezTo>
                  <a:pt x="24581" y="6482"/>
                  <a:pt x="24581" y="6491"/>
                  <a:pt x="24581" y="6499"/>
                </a:cubicBezTo>
                <a:cubicBezTo>
                  <a:pt x="24655" y="6499"/>
                  <a:pt x="24718" y="6491"/>
                  <a:pt x="24780" y="6474"/>
                </a:cubicBezTo>
                <a:cubicBezTo>
                  <a:pt x="24805" y="6474"/>
                  <a:pt x="24813" y="6474"/>
                  <a:pt x="24829" y="6474"/>
                </a:cubicBezTo>
              </a:path>
              <a:path w="3846" h="4788">
                <a:moveTo>
                  <a:pt x="24507" y="2282"/>
                </a:moveTo>
                <a:cubicBezTo>
                  <a:pt x="24507" y="2216"/>
                  <a:pt x="24516" y="2365"/>
                  <a:pt x="24507" y="2431"/>
                </a:cubicBezTo>
                <a:cubicBezTo>
                  <a:pt x="24495" y="2525"/>
                  <a:pt x="24447" y="2641"/>
                  <a:pt x="24507" y="2729"/>
                </a:cubicBezTo>
                <a:cubicBezTo>
                  <a:pt x="24547" y="2788"/>
                  <a:pt x="24655" y="2751"/>
                  <a:pt x="24705" y="2729"/>
                </a:cubicBezTo>
                <a:cubicBezTo>
                  <a:pt x="24750" y="2709"/>
                  <a:pt x="24833" y="2596"/>
                  <a:pt x="24755" y="2555"/>
                </a:cubicBezTo>
                <a:cubicBezTo>
                  <a:pt x="24640" y="2494"/>
                  <a:pt x="24636" y="2676"/>
                  <a:pt x="24631" y="2729"/>
                </a:cubicBezTo>
                <a:cubicBezTo>
                  <a:pt x="24631" y="2763"/>
                  <a:pt x="24640" y="2767"/>
                  <a:pt x="24681" y="2729"/>
                </a:cubicBezTo>
              </a:path>
              <a:path w="3846" h="4788">
                <a:moveTo>
                  <a:pt x="24854" y="2208"/>
                </a:moveTo>
                <a:cubicBezTo>
                  <a:pt x="24881" y="2128"/>
                  <a:pt x="24925" y="2271"/>
                  <a:pt x="24929" y="2307"/>
                </a:cubicBezTo>
                <a:cubicBezTo>
                  <a:pt x="24941" y="2406"/>
                  <a:pt x="24947" y="2508"/>
                  <a:pt x="24954" y="2604"/>
                </a:cubicBezTo>
                <a:cubicBezTo>
                  <a:pt x="24958" y="2653"/>
                  <a:pt x="25079" y="2665"/>
                  <a:pt x="25127" y="2654"/>
                </a:cubicBezTo>
                <a:cubicBezTo>
                  <a:pt x="25200" y="2637"/>
                  <a:pt x="25235" y="2545"/>
                  <a:pt x="25251" y="2480"/>
                </a:cubicBezTo>
                <a:cubicBezTo>
                  <a:pt x="25251" y="2456"/>
                  <a:pt x="25251" y="2447"/>
                  <a:pt x="25251" y="2431"/>
                </a:cubicBezTo>
                <a:cubicBezTo>
                  <a:pt x="25174" y="2442"/>
                  <a:pt x="25125" y="2495"/>
                  <a:pt x="25102" y="2580"/>
                </a:cubicBezTo>
                <a:cubicBezTo>
                  <a:pt x="25102" y="2624"/>
                  <a:pt x="25099" y="2638"/>
                  <a:pt x="25127" y="2654"/>
                </a:cubicBezTo>
              </a:path>
              <a:path w="3846" h="4788">
                <a:moveTo>
                  <a:pt x="21605" y="6424"/>
                </a:moveTo>
                <a:cubicBezTo>
                  <a:pt x="21566" y="6368"/>
                  <a:pt x="21475" y="6422"/>
                  <a:pt x="21406" y="6449"/>
                </a:cubicBezTo>
                <a:cubicBezTo>
                  <a:pt x="21492" y="6535"/>
                  <a:pt x="21606" y="6532"/>
                  <a:pt x="21729" y="6573"/>
                </a:cubicBezTo>
                <a:cubicBezTo>
                  <a:pt x="21707" y="6660"/>
                  <a:pt x="21615" y="6836"/>
                  <a:pt x="21481" y="6722"/>
                </a:cubicBezTo>
                <a:cubicBezTo>
                  <a:pt x="21473" y="6697"/>
                  <a:pt x="21464" y="6673"/>
                  <a:pt x="21456" y="6648"/>
                </a:cubicBezTo>
              </a:path>
              <a:path w="3846" h="4788">
                <a:moveTo>
                  <a:pt x="21605" y="6251"/>
                </a:moveTo>
                <a:cubicBezTo>
                  <a:pt x="21614" y="6449"/>
                  <a:pt x="21621" y="6653"/>
                  <a:pt x="21654" y="6846"/>
                </a:cubicBezTo>
              </a:path>
              <a:path w="3846" h="4788">
                <a:moveTo>
                  <a:pt x="22076" y="6300"/>
                </a:moveTo>
                <a:cubicBezTo>
                  <a:pt x="22193" y="6352"/>
                  <a:pt x="22256" y="6379"/>
                  <a:pt x="22200" y="6548"/>
                </a:cubicBezTo>
                <a:cubicBezTo>
                  <a:pt x="22167" y="6647"/>
                  <a:pt x="22068" y="6710"/>
                  <a:pt x="22027" y="6772"/>
                </a:cubicBezTo>
                <a:cubicBezTo>
                  <a:pt x="21996" y="6818"/>
                  <a:pt x="21977" y="6905"/>
                  <a:pt x="21927" y="6945"/>
                </a:cubicBezTo>
                <a:cubicBezTo>
                  <a:pt x="21903" y="6945"/>
                  <a:pt x="21895" y="6945"/>
                  <a:pt x="21903" y="6970"/>
                </a:cubicBezTo>
                <a:cubicBezTo>
                  <a:pt x="21846" y="6951"/>
                  <a:pt x="21881" y="6873"/>
                  <a:pt x="21903" y="6821"/>
                </a:cubicBezTo>
                <a:cubicBezTo>
                  <a:pt x="21953" y="6701"/>
                  <a:pt x="22085" y="6759"/>
                  <a:pt x="22175" y="6796"/>
                </a:cubicBezTo>
                <a:cubicBezTo>
                  <a:pt x="22225" y="6816"/>
                  <a:pt x="22315" y="6892"/>
                  <a:pt x="22374" y="6846"/>
                </a:cubicBezTo>
                <a:cubicBezTo>
                  <a:pt x="22423" y="6772"/>
                  <a:pt x="22440" y="6747"/>
                  <a:pt x="22473" y="6697"/>
                </a:cubicBezTo>
              </a:path>
              <a:path w="3846" h="4788">
                <a:moveTo>
                  <a:pt x="22721" y="6697"/>
                </a:moveTo>
                <a:cubicBezTo>
                  <a:pt x="22772" y="6714"/>
                  <a:pt x="22725" y="6751"/>
                  <a:pt x="22746" y="6722"/>
                </a:cubicBezTo>
                <a:cubicBezTo>
                  <a:pt x="22769" y="6699"/>
                  <a:pt x="22780" y="6691"/>
                  <a:pt x="22746" y="6697"/>
                </a:cubicBezTo>
              </a:path>
              <a:path w="3846" h="4788">
                <a:moveTo>
                  <a:pt x="24309" y="2803"/>
                </a:moveTo>
                <a:cubicBezTo>
                  <a:pt x="24349" y="2803"/>
                  <a:pt x="24447" y="2780"/>
                  <a:pt x="24408" y="2803"/>
                </a:cubicBezTo>
                <a:cubicBezTo>
                  <a:pt x="24322" y="2853"/>
                  <a:pt x="24205" y="2905"/>
                  <a:pt x="24135" y="2952"/>
                </a:cubicBezTo>
                <a:cubicBezTo>
                  <a:pt x="24061" y="3002"/>
                  <a:pt x="24295" y="2890"/>
                  <a:pt x="24383" y="2877"/>
                </a:cubicBezTo>
                <a:cubicBezTo>
                  <a:pt x="24375" y="2877"/>
                  <a:pt x="24366" y="2877"/>
                  <a:pt x="24358" y="2877"/>
                </a:cubicBezTo>
                <a:cubicBezTo>
                  <a:pt x="24263" y="2901"/>
                  <a:pt x="24234" y="2907"/>
                  <a:pt x="24185" y="2952"/>
                </a:cubicBezTo>
                <a:cubicBezTo>
                  <a:pt x="24104" y="2952"/>
                  <a:pt x="24096" y="2954"/>
                  <a:pt x="24185" y="2927"/>
                </a:cubicBezTo>
                <a:cubicBezTo>
                  <a:pt x="24295" y="2894"/>
                  <a:pt x="24357" y="2910"/>
                  <a:pt x="24209" y="2877"/>
                </a:cubicBezTo>
                <a:cubicBezTo>
                  <a:pt x="24168" y="2868"/>
                  <a:pt x="23854" y="2756"/>
                  <a:pt x="24135" y="2729"/>
                </a:cubicBezTo>
                <a:cubicBezTo>
                  <a:pt x="24297" y="2713"/>
                  <a:pt x="24311" y="2810"/>
                  <a:pt x="24135" y="2828"/>
                </a:cubicBezTo>
                <a:cubicBezTo>
                  <a:pt x="24058" y="2836"/>
                  <a:pt x="24011" y="2849"/>
                  <a:pt x="24085" y="2803"/>
                </a:cubicBezTo>
                <a:cubicBezTo>
                  <a:pt x="24252" y="2734"/>
                  <a:pt x="24314" y="2704"/>
                  <a:pt x="24110" y="2803"/>
                </a:cubicBezTo>
                <a:cubicBezTo>
                  <a:pt x="24069" y="2820"/>
                  <a:pt x="24027" y="2836"/>
                  <a:pt x="23986" y="2853"/>
                </a:cubicBezTo>
                <a:cubicBezTo>
                  <a:pt x="23901" y="2853"/>
                  <a:pt x="24104" y="2829"/>
                  <a:pt x="24185" y="2803"/>
                </a:cubicBezTo>
                <a:cubicBezTo>
                  <a:pt x="24317" y="2760"/>
                  <a:pt x="24099" y="2854"/>
                  <a:pt x="24061" y="2902"/>
                </a:cubicBezTo>
                <a:cubicBezTo>
                  <a:pt x="24030" y="2942"/>
                  <a:pt x="24172" y="2911"/>
                  <a:pt x="24209" y="2877"/>
                </a:cubicBezTo>
                <a:cubicBezTo>
                  <a:pt x="24263" y="2827"/>
                  <a:pt x="24064" y="2972"/>
                  <a:pt x="24135" y="2952"/>
                </a:cubicBezTo>
                <a:cubicBezTo>
                  <a:pt x="24205" y="2932"/>
                  <a:pt x="24321" y="2914"/>
                  <a:pt x="24259" y="2952"/>
                </a:cubicBezTo>
                <a:cubicBezTo>
                  <a:pt x="24172" y="2995"/>
                  <a:pt x="24148" y="3002"/>
                  <a:pt x="24110" y="3051"/>
                </a:cubicBezTo>
                <a:cubicBezTo>
                  <a:pt x="24180" y="3034"/>
                  <a:pt x="24317" y="3009"/>
                  <a:pt x="24383" y="2977"/>
                </a:cubicBezTo>
                <a:cubicBezTo>
                  <a:pt x="24462" y="2939"/>
                  <a:pt x="24156" y="3090"/>
                  <a:pt x="24234" y="3051"/>
                </a:cubicBezTo>
                <a:cubicBezTo>
                  <a:pt x="24313" y="3011"/>
                  <a:pt x="24206" y="3059"/>
                  <a:pt x="24185" y="3076"/>
                </a:cubicBezTo>
              </a:path>
              <a:path w="3846" h="4788">
                <a:moveTo>
                  <a:pt x="23068" y="6276"/>
                </a:moveTo>
                <a:cubicBezTo>
                  <a:pt x="23041" y="6399"/>
                  <a:pt x="23024" y="6521"/>
                  <a:pt x="23019" y="6648"/>
                </a:cubicBezTo>
                <a:cubicBezTo>
                  <a:pt x="23017" y="6711"/>
                  <a:pt x="23038" y="6744"/>
                  <a:pt x="23044" y="6796"/>
                </a:cubicBezTo>
                <a:cubicBezTo>
                  <a:pt x="23052" y="6866"/>
                  <a:pt x="23133" y="6856"/>
                  <a:pt x="23192" y="6846"/>
                </a:cubicBezTo>
                <a:cubicBezTo>
                  <a:pt x="23307" y="6827"/>
                  <a:pt x="23314" y="6819"/>
                  <a:pt x="23341" y="6747"/>
                </a:cubicBezTo>
                <a:cubicBezTo>
                  <a:pt x="23358" y="6701"/>
                  <a:pt x="23362" y="6618"/>
                  <a:pt x="23292" y="6598"/>
                </a:cubicBezTo>
                <a:cubicBezTo>
                  <a:pt x="23203" y="6572"/>
                  <a:pt x="23140" y="6653"/>
                  <a:pt x="23118" y="6722"/>
                </a:cubicBezTo>
                <a:cubicBezTo>
                  <a:pt x="23109" y="6752"/>
                  <a:pt x="23124" y="6855"/>
                  <a:pt x="23143" y="6871"/>
                </a:cubicBezTo>
                <a:cubicBezTo>
                  <a:pt x="23178" y="6871"/>
                  <a:pt x="23191" y="6862"/>
                  <a:pt x="23192" y="6821"/>
                </a:cubicBezTo>
              </a:path>
              <a:path w="3846" h="4788">
                <a:moveTo>
                  <a:pt x="23366" y="6375"/>
                </a:moveTo>
                <a:cubicBezTo>
                  <a:pt x="23405" y="6317"/>
                  <a:pt x="23560" y="6364"/>
                  <a:pt x="23639" y="6350"/>
                </a:cubicBezTo>
                <a:cubicBezTo>
                  <a:pt x="23679" y="6330"/>
                  <a:pt x="23685" y="6321"/>
                  <a:pt x="23713" y="6325"/>
                </a:cubicBezTo>
                <a:cubicBezTo>
                  <a:pt x="23775" y="6407"/>
                  <a:pt x="23706" y="6603"/>
                  <a:pt x="23688" y="6697"/>
                </a:cubicBezTo>
                <a:cubicBezTo>
                  <a:pt x="23670" y="6771"/>
                  <a:pt x="23662" y="6778"/>
                  <a:pt x="23664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5040" y="2955960"/>
            <a:ext cx="250920" cy="206280"/>
          </a:xfrm>
          <a:custGeom>
            <a:avLst/>
            <a:gdLst/>
            <a:ahLst/>
            <a:rect l="l" t="t" r="r" b="b"/>
            <a:pathLst>
              <a:path w="696" h="572">
                <a:moveTo>
                  <a:pt x="17264" y="8359"/>
                </a:moveTo>
                <a:cubicBezTo>
                  <a:pt x="17264" y="8351"/>
                  <a:pt x="17264" y="8342"/>
                  <a:pt x="17264" y="8334"/>
                </a:cubicBezTo>
                <a:cubicBezTo>
                  <a:pt x="17316" y="8347"/>
                  <a:pt x="17388" y="8376"/>
                  <a:pt x="17438" y="8409"/>
                </a:cubicBezTo>
                <a:cubicBezTo>
                  <a:pt x="17460" y="8432"/>
                  <a:pt x="17465" y="8440"/>
                  <a:pt x="17487" y="8434"/>
                </a:cubicBezTo>
              </a:path>
              <a:path w="696" h="572">
                <a:moveTo>
                  <a:pt x="17363" y="8235"/>
                </a:moveTo>
                <a:cubicBezTo>
                  <a:pt x="17363" y="8227"/>
                  <a:pt x="17363" y="8218"/>
                  <a:pt x="17363" y="8210"/>
                </a:cubicBezTo>
              </a:path>
              <a:path w="696" h="572">
                <a:moveTo>
                  <a:pt x="17289" y="8607"/>
                </a:moveTo>
                <a:cubicBezTo>
                  <a:pt x="17289" y="8635"/>
                  <a:pt x="17291" y="8641"/>
                  <a:pt x="17314" y="8607"/>
                </a:cubicBezTo>
              </a:path>
              <a:path w="696" h="572">
                <a:moveTo>
                  <a:pt x="17587" y="8434"/>
                </a:moveTo>
                <a:cubicBezTo>
                  <a:pt x="17673" y="8412"/>
                  <a:pt x="17678" y="8346"/>
                  <a:pt x="17785" y="8384"/>
                </a:cubicBezTo>
                <a:cubicBezTo>
                  <a:pt x="17867" y="8413"/>
                  <a:pt x="17791" y="8502"/>
                  <a:pt x="17760" y="8533"/>
                </a:cubicBezTo>
                <a:cubicBezTo>
                  <a:pt x="17828" y="8533"/>
                  <a:pt x="17975" y="8514"/>
                  <a:pt x="17959" y="8632"/>
                </a:cubicBezTo>
                <a:cubicBezTo>
                  <a:pt x="17942" y="8761"/>
                  <a:pt x="17811" y="8770"/>
                  <a:pt x="17711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5040" y="4384800"/>
            <a:ext cx="1152720" cy="303120"/>
          </a:xfrm>
          <a:custGeom>
            <a:avLst/>
            <a:gdLst/>
            <a:ahLst/>
            <a:rect l="l" t="t" r="r" b="b"/>
            <a:pathLst>
              <a:path w="3201" h="844">
                <a:moveTo>
                  <a:pt x="10765" y="12452"/>
                </a:moveTo>
                <a:cubicBezTo>
                  <a:pt x="10768" y="12471"/>
                  <a:pt x="10840" y="13090"/>
                  <a:pt x="10840" y="12973"/>
                </a:cubicBezTo>
              </a:path>
              <a:path w="3201" h="844">
                <a:moveTo>
                  <a:pt x="11038" y="12204"/>
                </a:moveTo>
                <a:cubicBezTo>
                  <a:pt x="11388" y="12222"/>
                  <a:pt x="11743" y="12305"/>
                  <a:pt x="11559" y="12774"/>
                </a:cubicBezTo>
                <a:cubicBezTo>
                  <a:pt x="11471" y="13000"/>
                  <a:pt x="11308" y="12971"/>
                  <a:pt x="11137" y="12948"/>
                </a:cubicBezTo>
                <a:cubicBezTo>
                  <a:pt x="11259" y="12650"/>
                  <a:pt x="11376" y="12666"/>
                  <a:pt x="11658" y="12824"/>
                </a:cubicBezTo>
                <a:cubicBezTo>
                  <a:pt x="11736" y="12876"/>
                  <a:pt x="11765" y="12892"/>
                  <a:pt x="11832" y="12849"/>
                </a:cubicBezTo>
              </a:path>
              <a:path w="3201" h="844">
                <a:moveTo>
                  <a:pt x="12154" y="12204"/>
                </a:moveTo>
                <a:cubicBezTo>
                  <a:pt x="11889" y="12445"/>
                  <a:pt x="11809" y="12548"/>
                  <a:pt x="12005" y="12849"/>
                </a:cubicBezTo>
                <a:cubicBezTo>
                  <a:pt x="12201" y="12811"/>
                  <a:pt x="12750" y="12495"/>
                  <a:pt x="12303" y="12254"/>
                </a:cubicBezTo>
                <a:cubicBezTo>
                  <a:pt x="12096" y="12254"/>
                  <a:pt x="12055" y="12254"/>
                  <a:pt x="11931" y="12254"/>
                </a:cubicBezTo>
              </a:path>
              <a:path w="3201" h="844">
                <a:moveTo>
                  <a:pt x="12774" y="12452"/>
                </a:moveTo>
                <a:cubicBezTo>
                  <a:pt x="12797" y="12610"/>
                  <a:pt x="12802" y="12652"/>
                  <a:pt x="12824" y="12750"/>
                </a:cubicBezTo>
                <a:cubicBezTo>
                  <a:pt x="12824" y="12814"/>
                  <a:pt x="12847" y="12458"/>
                  <a:pt x="12849" y="12452"/>
                </a:cubicBezTo>
                <a:cubicBezTo>
                  <a:pt x="12978" y="12086"/>
                  <a:pt x="13200" y="12504"/>
                  <a:pt x="13271" y="12650"/>
                </a:cubicBezTo>
                <a:cubicBezTo>
                  <a:pt x="13271" y="12767"/>
                  <a:pt x="13254" y="12511"/>
                  <a:pt x="13295" y="12402"/>
                </a:cubicBezTo>
                <a:cubicBezTo>
                  <a:pt x="13312" y="12386"/>
                  <a:pt x="13328" y="12369"/>
                  <a:pt x="13345" y="12353"/>
                </a:cubicBezTo>
                <a:cubicBezTo>
                  <a:pt x="13535" y="12401"/>
                  <a:pt x="13588" y="12492"/>
                  <a:pt x="13618" y="12700"/>
                </a:cubicBezTo>
                <a:cubicBezTo>
                  <a:pt x="13631" y="12793"/>
                  <a:pt x="13582" y="12803"/>
                  <a:pt x="13667" y="12774"/>
                </a:cubicBezTo>
              </a:path>
              <a:path w="3201" h="844">
                <a:moveTo>
                  <a:pt x="13891" y="12502"/>
                </a:moveTo>
                <a:cubicBezTo>
                  <a:pt x="13901" y="12545"/>
                  <a:pt x="14020" y="12935"/>
                  <a:pt x="13940" y="12725"/>
                </a:cubicBezTo>
              </a:path>
              <a:path w="3201" h="844">
                <a:moveTo>
                  <a:pt x="13816" y="12204"/>
                </a:moveTo>
                <a:cubicBezTo>
                  <a:pt x="13808" y="12204"/>
                  <a:pt x="13799" y="12204"/>
                  <a:pt x="13791" y="12204"/>
                </a:cubicBezTo>
              </a:path>
              <a:path w="3201" h="844">
                <a:moveTo>
                  <a:pt x="13791" y="12204"/>
                </a:moveTo>
                <a:lnTo>
                  <a:pt x="13791" y="122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62760" y="4429080"/>
            <a:ext cx="32220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6966" y="12303"/>
                </a:moveTo>
                <a:cubicBezTo>
                  <a:pt x="16930" y="12460"/>
                  <a:pt x="16785" y="12676"/>
                  <a:pt x="16842" y="12849"/>
                </a:cubicBezTo>
                <a:cubicBezTo>
                  <a:pt x="16911" y="13060"/>
                  <a:pt x="17226" y="12896"/>
                  <a:pt x="17289" y="12774"/>
                </a:cubicBezTo>
                <a:cubicBezTo>
                  <a:pt x="17289" y="12741"/>
                  <a:pt x="17289" y="12708"/>
                  <a:pt x="17289" y="12675"/>
                </a:cubicBezTo>
                <a:cubicBezTo>
                  <a:pt x="17264" y="12667"/>
                  <a:pt x="17239" y="12658"/>
                  <a:pt x="17214" y="12650"/>
                </a:cubicBezTo>
                <a:cubicBezTo>
                  <a:pt x="17056" y="12747"/>
                  <a:pt x="16913" y="12835"/>
                  <a:pt x="17090" y="12948"/>
                </a:cubicBezTo>
              </a:path>
              <a:path w="894" h="646">
                <a:moveTo>
                  <a:pt x="17562" y="12353"/>
                </a:moveTo>
                <a:cubicBezTo>
                  <a:pt x="17405" y="12281"/>
                  <a:pt x="17311" y="12449"/>
                  <a:pt x="17289" y="12626"/>
                </a:cubicBezTo>
                <a:cubicBezTo>
                  <a:pt x="17245" y="12983"/>
                  <a:pt x="17601" y="12812"/>
                  <a:pt x="17735" y="12725"/>
                </a:cubicBezTo>
                <a:cubicBezTo>
                  <a:pt x="17696" y="12453"/>
                  <a:pt x="17686" y="12336"/>
                  <a:pt x="1738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2160" y="4456080"/>
            <a:ext cx="330120" cy="214200"/>
          </a:xfrm>
          <a:custGeom>
            <a:avLst/>
            <a:gdLst/>
            <a:ahLst/>
            <a:rect l="l" t="t" r="r" b="b"/>
            <a:pathLst>
              <a:path w="919" h="596">
                <a:moveTo>
                  <a:pt x="18256" y="12725"/>
                </a:moveTo>
                <a:cubicBezTo>
                  <a:pt x="18256" y="12799"/>
                  <a:pt x="18256" y="12972"/>
                  <a:pt x="18256" y="12898"/>
                </a:cubicBezTo>
                <a:cubicBezTo>
                  <a:pt x="18256" y="12800"/>
                  <a:pt x="18263" y="12722"/>
                  <a:pt x="18281" y="12626"/>
                </a:cubicBezTo>
                <a:cubicBezTo>
                  <a:pt x="18471" y="12639"/>
                  <a:pt x="18472" y="12732"/>
                  <a:pt x="18579" y="12874"/>
                </a:cubicBezTo>
                <a:cubicBezTo>
                  <a:pt x="18579" y="12866"/>
                  <a:pt x="18579" y="12857"/>
                  <a:pt x="18579" y="12849"/>
                </a:cubicBezTo>
                <a:cubicBezTo>
                  <a:pt x="18555" y="12768"/>
                  <a:pt x="18513" y="12626"/>
                  <a:pt x="18653" y="12626"/>
                </a:cubicBezTo>
                <a:cubicBezTo>
                  <a:pt x="18773" y="12626"/>
                  <a:pt x="18874" y="12773"/>
                  <a:pt x="18901" y="12874"/>
                </a:cubicBezTo>
                <a:cubicBezTo>
                  <a:pt x="18921" y="12948"/>
                  <a:pt x="18872" y="12955"/>
                  <a:pt x="18926" y="12973"/>
                </a:cubicBezTo>
              </a:path>
              <a:path w="919" h="596">
                <a:moveTo>
                  <a:pt x="19100" y="12675"/>
                </a:moveTo>
                <a:cubicBezTo>
                  <a:pt x="19114" y="12734"/>
                  <a:pt x="19143" y="12930"/>
                  <a:pt x="19174" y="12898"/>
                </a:cubicBezTo>
              </a:path>
              <a:path w="919" h="596">
                <a:moveTo>
                  <a:pt x="19025" y="12378"/>
                </a:moveTo>
                <a:lnTo>
                  <a:pt x="19025" y="12378"/>
                </a:lnTo>
                <a:lnTo>
                  <a:pt x="19025" y="12378"/>
                </a:lnTo>
              </a:path>
              <a:path w="919" h="596">
                <a:moveTo>
                  <a:pt x="19025" y="12378"/>
                </a:moveTo>
                <a:lnTo>
                  <a:pt x="19025" y="123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0960" y="4670280"/>
            <a:ext cx="3278160" cy="420840"/>
          </a:xfrm>
          <a:custGeom>
            <a:avLst/>
            <a:gdLst/>
            <a:ahLst/>
            <a:rect l="l" t="t" r="r" b="b"/>
            <a:pathLst>
              <a:path w="9104" h="1167">
                <a:moveTo>
                  <a:pt x="11088" y="13221"/>
                </a:moveTo>
                <a:cubicBezTo>
                  <a:pt x="11835" y="13119"/>
                  <a:pt x="12589" y="13067"/>
                  <a:pt x="13345" y="13097"/>
                </a:cubicBezTo>
                <a:cubicBezTo>
                  <a:pt x="13546" y="13105"/>
                  <a:pt x="14136" y="13189"/>
                  <a:pt x="14288" y="13221"/>
                </a:cubicBezTo>
              </a:path>
              <a:path w="9104" h="1167">
                <a:moveTo>
                  <a:pt x="11658" y="13345"/>
                </a:moveTo>
                <a:cubicBezTo>
                  <a:pt x="11853" y="13317"/>
                  <a:pt x="12012" y="13353"/>
                  <a:pt x="12055" y="13593"/>
                </a:cubicBezTo>
                <a:cubicBezTo>
                  <a:pt x="12117" y="13934"/>
                  <a:pt x="11825" y="14101"/>
                  <a:pt x="11559" y="14114"/>
                </a:cubicBezTo>
                <a:cubicBezTo>
                  <a:pt x="11731" y="13863"/>
                  <a:pt x="11910" y="13837"/>
                  <a:pt x="12204" y="13990"/>
                </a:cubicBezTo>
                <a:cubicBezTo>
                  <a:pt x="12265" y="14051"/>
                  <a:pt x="12272" y="14076"/>
                  <a:pt x="12328" y="14064"/>
                </a:cubicBezTo>
              </a:path>
              <a:path w="9104" h="1167">
                <a:moveTo>
                  <a:pt x="12874" y="13469"/>
                </a:moveTo>
                <a:cubicBezTo>
                  <a:pt x="12916" y="13614"/>
                  <a:pt x="12994" y="13771"/>
                  <a:pt x="13022" y="13915"/>
                </a:cubicBezTo>
                <a:cubicBezTo>
                  <a:pt x="13022" y="13806"/>
                  <a:pt x="12988" y="13714"/>
                  <a:pt x="13097" y="13643"/>
                </a:cubicBezTo>
                <a:cubicBezTo>
                  <a:pt x="13308" y="13505"/>
                  <a:pt x="13358" y="13828"/>
                  <a:pt x="13395" y="13940"/>
                </a:cubicBezTo>
                <a:cubicBezTo>
                  <a:pt x="13427" y="14007"/>
                  <a:pt x="13443" y="14007"/>
                  <a:pt x="13469" y="13891"/>
                </a:cubicBezTo>
              </a:path>
              <a:path w="9104" h="1167">
                <a:moveTo>
                  <a:pt x="13643" y="13692"/>
                </a:moveTo>
                <a:cubicBezTo>
                  <a:pt x="13656" y="13760"/>
                  <a:pt x="13689" y="13869"/>
                  <a:pt x="13667" y="13891"/>
                </a:cubicBezTo>
                <a:cubicBezTo>
                  <a:pt x="13659" y="13819"/>
                  <a:pt x="13598" y="13625"/>
                  <a:pt x="13692" y="13593"/>
                </a:cubicBezTo>
                <a:cubicBezTo>
                  <a:pt x="13844" y="13540"/>
                  <a:pt x="14030" y="13539"/>
                  <a:pt x="14188" y="13519"/>
                </a:cubicBezTo>
              </a:path>
              <a:path w="9104" h="1167">
                <a:moveTo>
                  <a:pt x="14188" y="13494"/>
                </a:moveTo>
                <a:cubicBezTo>
                  <a:pt x="14105" y="13535"/>
                  <a:pt x="14080" y="13535"/>
                  <a:pt x="14064" y="13593"/>
                </a:cubicBezTo>
                <a:cubicBezTo>
                  <a:pt x="14193" y="13622"/>
                  <a:pt x="14277" y="13672"/>
                  <a:pt x="14387" y="13742"/>
                </a:cubicBezTo>
                <a:cubicBezTo>
                  <a:pt x="14276" y="13914"/>
                  <a:pt x="14259" y="13874"/>
                  <a:pt x="14039" y="13866"/>
                </a:cubicBezTo>
              </a:path>
              <a:path w="9104" h="1167">
                <a:moveTo>
                  <a:pt x="15056" y="13072"/>
                </a:moveTo>
                <a:cubicBezTo>
                  <a:pt x="15082" y="12970"/>
                  <a:pt x="15340" y="12980"/>
                  <a:pt x="15429" y="12973"/>
                </a:cubicBezTo>
                <a:cubicBezTo>
                  <a:pt x="15490" y="12968"/>
                  <a:pt x="15607" y="12970"/>
                  <a:pt x="15553" y="12998"/>
                </a:cubicBezTo>
              </a:path>
              <a:path w="9104" h="1167">
                <a:moveTo>
                  <a:pt x="15156" y="13196"/>
                </a:moveTo>
                <a:cubicBezTo>
                  <a:pt x="15314" y="13169"/>
                  <a:pt x="15469" y="13138"/>
                  <a:pt x="15627" y="13122"/>
                </a:cubicBezTo>
              </a:path>
              <a:path w="9104" h="1167">
                <a:moveTo>
                  <a:pt x="16396" y="13246"/>
                </a:moveTo>
                <a:cubicBezTo>
                  <a:pt x="16595" y="13235"/>
                  <a:pt x="16791" y="13209"/>
                  <a:pt x="16991" y="13196"/>
                </a:cubicBezTo>
                <a:cubicBezTo>
                  <a:pt x="17723" y="13149"/>
                  <a:pt x="18464" y="13196"/>
                  <a:pt x="19199" y="13196"/>
                </a:cubicBezTo>
                <a:cubicBezTo>
                  <a:pt x="19544" y="13196"/>
                  <a:pt x="19855" y="13194"/>
                  <a:pt x="20191" y="13146"/>
                </a:cubicBezTo>
              </a:path>
              <a:path w="9104" h="1167">
                <a:moveTo>
                  <a:pt x="17264" y="13295"/>
                </a:moveTo>
                <a:cubicBezTo>
                  <a:pt x="17272" y="13279"/>
                  <a:pt x="17281" y="13262"/>
                  <a:pt x="17289" y="13246"/>
                </a:cubicBezTo>
                <a:cubicBezTo>
                  <a:pt x="17313" y="13411"/>
                  <a:pt x="17372" y="13580"/>
                  <a:pt x="17413" y="13742"/>
                </a:cubicBezTo>
                <a:cubicBezTo>
                  <a:pt x="17432" y="13799"/>
                  <a:pt x="17441" y="13806"/>
                  <a:pt x="17438" y="13841"/>
                </a:cubicBezTo>
              </a:path>
              <a:path w="9104" h="1167">
                <a:moveTo>
                  <a:pt x="18355" y="13395"/>
                </a:moveTo>
                <a:cubicBezTo>
                  <a:pt x="18355" y="13284"/>
                  <a:pt x="18397" y="13561"/>
                  <a:pt x="18430" y="13667"/>
                </a:cubicBezTo>
                <a:cubicBezTo>
                  <a:pt x="18465" y="13774"/>
                  <a:pt x="18482" y="13780"/>
                  <a:pt x="18479" y="13841"/>
                </a:cubicBezTo>
                <a:cubicBezTo>
                  <a:pt x="18488" y="13735"/>
                  <a:pt x="18492" y="13642"/>
                  <a:pt x="18604" y="13593"/>
                </a:cubicBezTo>
                <a:cubicBezTo>
                  <a:pt x="18789" y="13512"/>
                  <a:pt x="18889" y="13701"/>
                  <a:pt x="18951" y="13841"/>
                </a:cubicBezTo>
                <a:cubicBezTo>
                  <a:pt x="18970" y="13898"/>
                  <a:pt x="18979" y="13905"/>
                  <a:pt x="18976" y="13940"/>
                </a:cubicBezTo>
              </a:path>
              <a:path w="9104" h="1167">
                <a:moveTo>
                  <a:pt x="19100" y="13717"/>
                </a:moveTo>
                <a:cubicBezTo>
                  <a:pt x="19120" y="13801"/>
                  <a:pt x="19122" y="13820"/>
                  <a:pt x="19149" y="13866"/>
                </a:cubicBezTo>
                <a:cubicBezTo>
                  <a:pt x="19149" y="13723"/>
                  <a:pt x="19124" y="13620"/>
                  <a:pt x="19298" y="13593"/>
                </a:cubicBezTo>
                <a:cubicBezTo>
                  <a:pt x="19376" y="13593"/>
                  <a:pt x="19394" y="13578"/>
                  <a:pt x="19422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37080" y="5072040"/>
            <a:ext cx="3380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2601" y="14263"/>
                </a:moveTo>
                <a:cubicBezTo>
                  <a:pt x="12689" y="14307"/>
                  <a:pt x="12771" y="14372"/>
                  <a:pt x="12874" y="14412"/>
                </a:cubicBezTo>
              </a:path>
              <a:path w="943" h="547">
                <a:moveTo>
                  <a:pt x="12774" y="14089"/>
                </a:moveTo>
                <a:cubicBezTo>
                  <a:pt x="12774" y="14097"/>
                  <a:pt x="12774" y="14106"/>
                  <a:pt x="12774" y="14114"/>
                </a:cubicBezTo>
              </a:path>
              <a:path w="943" h="547">
                <a:moveTo>
                  <a:pt x="12700" y="14585"/>
                </a:moveTo>
                <a:lnTo>
                  <a:pt x="12700" y="14585"/>
                </a:lnTo>
                <a:lnTo>
                  <a:pt x="12700" y="14585"/>
                </a:lnTo>
                <a:lnTo>
                  <a:pt x="12700" y="14585"/>
                </a:lnTo>
              </a:path>
              <a:path w="943" h="547">
                <a:moveTo>
                  <a:pt x="12700" y="14585"/>
                </a:moveTo>
                <a:lnTo>
                  <a:pt x="12700" y="14585"/>
                </a:lnTo>
              </a:path>
              <a:path w="943" h="547">
                <a:moveTo>
                  <a:pt x="13097" y="14312"/>
                </a:moveTo>
                <a:cubicBezTo>
                  <a:pt x="13130" y="14294"/>
                  <a:pt x="13404" y="14203"/>
                  <a:pt x="13345" y="14362"/>
                </a:cubicBezTo>
                <a:cubicBezTo>
                  <a:pt x="13253" y="14500"/>
                  <a:pt x="13229" y="14541"/>
                  <a:pt x="13146" y="14610"/>
                </a:cubicBezTo>
                <a:cubicBezTo>
                  <a:pt x="13091" y="14667"/>
                  <a:pt x="13472" y="14560"/>
                  <a:pt x="13543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45000" y="4249800"/>
            <a:ext cx="312840" cy="14436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12626" y="12080"/>
                </a:moveTo>
                <a:cubicBezTo>
                  <a:pt x="12723" y="12070"/>
                  <a:pt x="12816" y="12053"/>
                  <a:pt x="12898" y="12005"/>
                </a:cubicBezTo>
              </a:path>
              <a:path w="869" h="398">
                <a:moveTo>
                  <a:pt x="12650" y="11832"/>
                </a:moveTo>
                <a:cubicBezTo>
                  <a:pt x="12650" y="11840"/>
                  <a:pt x="12650" y="11849"/>
                  <a:pt x="12650" y="11857"/>
                </a:cubicBezTo>
              </a:path>
              <a:path w="869" h="398">
                <a:moveTo>
                  <a:pt x="12824" y="12204"/>
                </a:moveTo>
                <a:lnTo>
                  <a:pt x="12824" y="12204"/>
                </a:lnTo>
              </a:path>
              <a:path w="869" h="398">
                <a:moveTo>
                  <a:pt x="12824" y="12204"/>
                </a:moveTo>
                <a:lnTo>
                  <a:pt x="12824" y="12204"/>
                </a:lnTo>
              </a:path>
              <a:path w="869" h="398">
                <a:moveTo>
                  <a:pt x="13047" y="11881"/>
                </a:moveTo>
                <a:cubicBezTo>
                  <a:pt x="13120" y="11857"/>
                  <a:pt x="13237" y="11756"/>
                  <a:pt x="13320" y="11832"/>
                </a:cubicBezTo>
                <a:cubicBezTo>
                  <a:pt x="13361" y="11870"/>
                  <a:pt x="13218" y="12062"/>
                  <a:pt x="13196" y="12105"/>
                </a:cubicBezTo>
                <a:cubicBezTo>
                  <a:pt x="13188" y="12113"/>
                  <a:pt x="13179" y="12121"/>
                  <a:pt x="13171" y="12129"/>
                </a:cubicBezTo>
                <a:cubicBezTo>
                  <a:pt x="13279" y="12129"/>
                  <a:pt x="13342" y="12083"/>
                  <a:pt x="13444" y="12055"/>
                </a:cubicBezTo>
                <a:cubicBezTo>
                  <a:pt x="13469" y="12055"/>
                  <a:pt x="13477" y="12055"/>
                  <a:pt x="13494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 Students will distinguish between rate and unit rate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12oz tub of popcorn costs $3.00. A 20oz tub of popcorn costs $4.00. Which tub is the better bu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unit rate for each 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one costs less per oun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062000" y="2081160"/>
            <a:ext cx="5761080" cy="125640"/>
          </a:xfrm>
          <a:custGeom>
            <a:avLst/>
            <a:gdLst/>
            <a:ahLst/>
            <a:rect l="l" t="t" r="r" b="b"/>
            <a:pathLst>
              <a:path w="16000" h="349">
                <a:moveTo>
                  <a:pt x="4291" y="5928"/>
                </a:moveTo>
                <a:cubicBezTo>
                  <a:pt x="4374" y="5928"/>
                  <a:pt x="4456" y="5928"/>
                  <a:pt x="4539" y="5928"/>
                </a:cubicBezTo>
              </a:path>
              <a:path w="16000" h="349">
                <a:moveTo>
                  <a:pt x="2952" y="6028"/>
                </a:moveTo>
                <a:cubicBezTo>
                  <a:pt x="3030" y="6018"/>
                  <a:pt x="3091" y="5988"/>
                  <a:pt x="3175" y="5978"/>
                </a:cubicBezTo>
                <a:cubicBezTo>
                  <a:pt x="3341" y="5959"/>
                  <a:pt x="3503" y="5963"/>
                  <a:pt x="3671" y="5953"/>
                </a:cubicBezTo>
                <a:cubicBezTo>
                  <a:pt x="3894" y="5940"/>
                  <a:pt x="4117" y="5920"/>
                  <a:pt x="4341" y="5928"/>
                </a:cubicBezTo>
                <a:cubicBezTo>
                  <a:pt x="4637" y="5939"/>
                  <a:pt x="4940" y="5922"/>
                  <a:pt x="5234" y="5928"/>
                </a:cubicBezTo>
                <a:cubicBezTo>
                  <a:pt x="5505" y="5933"/>
                  <a:pt x="5781" y="5970"/>
                  <a:pt x="6052" y="5978"/>
                </a:cubicBezTo>
                <a:cubicBezTo>
                  <a:pt x="6268" y="5984"/>
                  <a:pt x="6482" y="5967"/>
                  <a:pt x="6697" y="5953"/>
                </a:cubicBezTo>
                <a:cubicBezTo>
                  <a:pt x="6938" y="5937"/>
                  <a:pt x="7177" y="5908"/>
                  <a:pt x="7417" y="5879"/>
                </a:cubicBezTo>
                <a:cubicBezTo>
                  <a:pt x="7982" y="5810"/>
                  <a:pt x="8533" y="5761"/>
                  <a:pt x="9103" y="5779"/>
                </a:cubicBezTo>
                <a:cubicBezTo>
                  <a:pt x="9506" y="5792"/>
                  <a:pt x="9915" y="5808"/>
                  <a:pt x="10319" y="5829"/>
                </a:cubicBezTo>
                <a:cubicBezTo>
                  <a:pt x="10553" y="5841"/>
                  <a:pt x="10781" y="5879"/>
                  <a:pt x="11013" y="5904"/>
                </a:cubicBezTo>
                <a:cubicBezTo>
                  <a:pt x="11421" y="5949"/>
                  <a:pt x="11816" y="6062"/>
                  <a:pt x="12229" y="6102"/>
                </a:cubicBezTo>
                <a:cubicBezTo>
                  <a:pt x="12716" y="6149"/>
                  <a:pt x="13255" y="6168"/>
                  <a:pt x="13742" y="6102"/>
                </a:cubicBezTo>
                <a:cubicBezTo>
                  <a:pt x="13992" y="6068"/>
                  <a:pt x="14235" y="6010"/>
                  <a:pt x="14486" y="5978"/>
                </a:cubicBezTo>
                <a:cubicBezTo>
                  <a:pt x="14692" y="5952"/>
                  <a:pt x="14899" y="5936"/>
                  <a:pt x="15106" y="5928"/>
                </a:cubicBezTo>
                <a:cubicBezTo>
                  <a:pt x="15437" y="5915"/>
                  <a:pt x="15773" y="5893"/>
                  <a:pt x="16098" y="5904"/>
                </a:cubicBezTo>
                <a:cubicBezTo>
                  <a:pt x="16389" y="5914"/>
                  <a:pt x="16673" y="5961"/>
                  <a:pt x="16966" y="5953"/>
                </a:cubicBezTo>
                <a:cubicBezTo>
                  <a:pt x="17180" y="5947"/>
                  <a:pt x="17396" y="5911"/>
                  <a:pt x="17611" y="5904"/>
                </a:cubicBezTo>
                <a:cubicBezTo>
                  <a:pt x="17876" y="5896"/>
                  <a:pt x="18140" y="5884"/>
                  <a:pt x="18405" y="5879"/>
                </a:cubicBezTo>
                <a:cubicBezTo>
                  <a:pt x="18581" y="5875"/>
                  <a:pt x="18754" y="5863"/>
                  <a:pt x="18926" y="5854"/>
                </a:cubicBezTo>
                <a:cubicBezTo>
                  <a:pt x="18934" y="5854"/>
                  <a:pt x="18943" y="5854"/>
                  <a:pt x="18951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70240" y="2768760"/>
            <a:ext cx="982800" cy="758520"/>
          </a:xfrm>
          <a:custGeom>
            <a:avLst/>
            <a:gdLst/>
            <a:ahLst/>
            <a:rect l="l" t="t" r="r" b="b"/>
            <a:pathLst>
              <a:path w="2729" h="2110">
                <a:moveTo>
                  <a:pt x="11906" y="8012"/>
                </a:moveTo>
                <a:cubicBezTo>
                  <a:pt x="11975" y="8190"/>
                  <a:pt x="12003" y="8369"/>
                  <a:pt x="12030" y="8558"/>
                </a:cubicBezTo>
                <a:cubicBezTo>
                  <a:pt x="12030" y="8566"/>
                  <a:pt x="12030" y="8574"/>
                  <a:pt x="12030" y="8582"/>
                </a:cubicBezTo>
              </a:path>
              <a:path w="2729" h="2110">
                <a:moveTo>
                  <a:pt x="12303" y="7987"/>
                </a:moveTo>
                <a:cubicBezTo>
                  <a:pt x="12548" y="8038"/>
                  <a:pt x="12844" y="8070"/>
                  <a:pt x="12725" y="8409"/>
                </a:cubicBezTo>
                <a:cubicBezTo>
                  <a:pt x="12648" y="8630"/>
                  <a:pt x="12520" y="8593"/>
                  <a:pt x="12353" y="8558"/>
                </a:cubicBezTo>
                <a:cubicBezTo>
                  <a:pt x="12405" y="8402"/>
                  <a:pt x="12537" y="8287"/>
                  <a:pt x="12725" y="8409"/>
                </a:cubicBezTo>
                <a:cubicBezTo>
                  <a:pt x="12749" y="8457"/>
                  <a:pt x="12758" y="8471"/>
                  <a:pt x="12750" y="8508"/>
                </a:cubicBezTo>
              </a:path>
              <a:path w="2729" h="2110">
                <a:moveTo>
                  <a:pt x="13196" y="8210"/>
                </a:moveTo>
                <a:cubicBezTo>
                  <a:pt x="13090" y="8309"/>
                  <a:pt x="13069" y="8318"/>
                  <a:pt x="13047" y="8458"/>
                </a:cubicBezTo>
                <a:cubicBezTo>
                  <a:pt x="13117" y="8467"/>
                  <a:pt x="13429" y="8485"/>
                  <a:pt x="13370" y="8310"/>
                </a:cubicBezTo>
                <a:cubicBezTo>
                  <a:pt x="13337" y="8212"/>
                  <a:pt x="13224" y="8218"/>
                  <a:pt x="13146" y="8210"/>
                </a:cubicBezTo>
              </a:path>
              <a:path w="2729" h="2110">
                <a:moveTo>
                  <a:pt x="13494" y="8136"/>
                </a:moveTo>
                <a:cubicBezTo>
                  <a:pt x="13577" y="8128"/>
                  <a:pt x="13641" y="8122"/>
                  <a:pt x="13717" y="8136"/>
                </a:cubicBezTo>
                <a:cubicBezTo>
                  <a:pt x="13656" y="8249"/>
                  <a:pt x="13583" y="8338"/>
                  <a:pt x="13494" y="8434"/>
                </a:cubicBezTo>
                <a:cubicBezTo>
                  <a:pt x="13543" y="8506"/>
                  <a:pt x="13691" y="8443"/>
                  <a:pt x="13767" y="8458"/>
                </a:cubicBezTo>
                <a:cubicBezTo>
                  <a:pt x="13767" y="8466"/>
                  <a:pt x="13767" y="8475"/>
                  <a:pt x="13767" y="8483"/>
                </a:cubicBezTo>
              </a:path>
              <a:path w="2729" h="2110">
                <a:moveTo>
                  <a:pt x="11584" y="8930"/>
                </a:moveTo>
                <a:cubicBezTo>
                  <a:pt x="11738" y="8889"/>
                  <a:pt x="11893" y="8877"/>
                  <a:pt x="12055" y="8855"/>
                </a:cubicBezTo>
                <a:cubicBezTo>
                  <a:pt x="12544" y="8788"/>
                  <a:pt x="13031" y="8739"/>
                  <a:pt x="13519" y="8657"/>
                </a:cubicBezTo>
                <a:cubicBezTo>
                  <a:pt x="13783" y="8613"/>
                  <a:pt x="14050" y="8560"/>
                  <a:pt x="14312" y="8508"/>
                </a:cubicBezTo>
              </a:path>
              <a:path w="2729" h="2110">
                <a:moveTo>
                  <a:pt x="12452" y="9103"/>
                </a:moveTo>
                <a:cubicBezTo>
                  <a:pt x="12303" y="9077"/>
                  <a:pt x="12147" y="9132"/>
                  <a:pt x="12005" y="9203"/>
                </a:cubicBezTo>
                <a:cubicBezTo>
                  <a:pt x="11997" y="9211"/>
                  <a:pt x="11989" y="9219"/>
                  <a:pt x="11981" y="9227"/>
                </a:cubicBezTo>
                <a:cubicBezTo>
                  <a:pt x="12035" y="9244"/>
                  <a:pt x="12459" y="9321"/>
                  <a:pt x="12402" y="9401"/>
                </a:cubicBezTo>
                <a:cubicBezTo>
                  <a:pt x="12339" y="9490"/>
                  <a:pt x="11914" y="9630"/>
                  <a:pt x="12005" y="9401"/>
                </a:cubicBezTo>
                <a:cubicBezTo>
                  <a:pt x="12038" y="9360"/>
                  <a:pt x="12072" y="9318"/>
                  <a:pt x="12105" y="9277"/>
                </a:cubicBezTo>
              </a:path>
              <a:path w="2729" h="2110">
                <a:moveTo>
                  <a:pt x="12154" y="9103"/>
                </a:moveTo>
                <a:cubicBezTo>
                  <a:pt x="12211" y="9224"/>
                  <a:pt x="12271" y="9346"/>
                  <a:pt x="12303" y="9475"/>
                </a:cubicBezTo>
              </a:path>
              <a:path w="2729" h="2110">
                <a:moveTo>
                  <a:pt x="12675" y="9153"/>
                </a:moveTo>
                <a:cubicBezTo>
                  <a:pt x="12763" y="9153"/>
                  <a:pt x="12803" y="9079"/>
                  <a:pt x="12898" y="9079"/>
                </a:cubicBezTo>
                <a:cubicBezTo>
                  <a:pt x="13114" y="9078"/>
                  <a:pt x="12861" y="9356"/>
                  <a:pt x="12824" y="9401"/>
                </a:cubicBezTo>
                <a:cubicBezTo>
                  <a:pt x="12816" y="9409"/>
                  <a:pt x="12807" y="9418"/>
                  <a:pt x="12799" y="9426"/>
                </a:cubicBezTo>
                <a:cubicBezTo>
                  <a:pt x="12911" y="9381"/>
                  <a:pt x="13009" y="9293"/>
                  <a:pt x="13146" y="9401"/>
                </a:cubicBezTo>
                <a:cubicBezTo>
                  <a:pt x="13304" y="9526"/>
                  <a:pt x="13211" y="9746"/>
                  <a:pt x="13047" y="9798"/>
                </a:cubicBezTo>
                <a:cubicBezTo>
                  <a:pt x="12973" y="9798"/>
                  <a:pt x="12964" y="9798"/>
                  <a:pt x="12923" y="9798"/>
                </a:cubicBezTo>
              </a:path>
              <a:path w="2729" h="2110">
                <a:moveTo>
                  <a:pt x="12774" y="8012"/>
                </a:moveTo>
                <a:cubicBezTo>
                  <a:pt x="12857" y="7979"/>
                  <a:pt x="12884" y="7942"/>
                  <a:pt x="12923" y="7863"/>
                </a:cubicBezTo>
              </a:path>
              <a:path w="2729" h="2110">
                <a:moveTo>
                  <a:pt x="12750" y="7714"/>
                </a:moveTo>
                <a:cubicBezTo>
                  <a:pt x="12789" y="7795"/>
                  <a:pt x="12819" y="7839"/>
                  <a:pt x="12874" y="7888"/>
                </a:cubicBezTo>
              </a:path>
              <a:path w="2729" h="2110">
                <a:moveTo>
                  <a:pt x="12948" y="8086"/>
                </a:moveTo>
                <a:cubicBezTo>
                  <a:pt x="12956" y="8094"/>
                  <a:pt x="12965" y="8103"/>
                  <a:pt x="12973" y="8111"/>
                </a:cubicBezTo>
              </a:path>
              <a:path w="2729" h="2110">
                <a:moveTo>
                  <a:pt x="12973" y="8111"/>
                </a:moveTo>
                <a:lnTo>
                  <a:pt x="12973" y="8111"/>
                </a:lnTo>
              </a:path>
              <a:path w="2729" h="2110">
                <a:moveTo>
                  <a:pt x="13097" y="7789"/>
                </a:moveTo>
                <a:cubicBezTo>
                  <a:pt x="13097" y="7737"/>
                  <a:pt x="13098" y="7719"/>
                  <a:pt x="13122" y="7689"/>
                </a:cubicBezTo>
                <a:cubicBezTo>
                  <a:pt x="13136" y="7704"/>
                  <a:pt x="13132" y="7801"/>
                  <a:pt x="13171" y="7789"/>
                </a:cubicBezTo>
                <a:cubicBezTo>
                  <a:pt x="13226" y="7761"/>
                  <a:pt x="13249" y="7753"/>
                  <a:pt x="13295" y="7764"/>
                </a:cubicBezTo>
                <a:cubicBezTo>
                  <a:pt x="13277" y="7885"/>
                  <a:pt x="13271" y="7978"/>
                  <a:pt x="13146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12040" y="2116080"/>
            <a:ext cx="696960" cy="46080"/>
          </a:xfrm>
          <a:custGeom>
            <a:avLst/>
            <a:gdLst/>
            <a:ahLst/>
            <a:rect l="l" t="t" r="r" b="b"/>
            <a:pathLst>
              <a:path w="1936" h="125">
                <a:moveTo>
                  <a:pt x="20588" y="5879"/>
                </a:moveTo>
                <a:cubicBezTo>
                  <a:pt x="20656" y="5902"/>
                  <a:pt x="20719" y="5933"/>
                  <a:pt x="20786" y="5953"/>
                </a:cubicBezTo>
                <a:cubicBezTo>
                  <a:pt x="21025" y="6026"/>
                  <a:pt x="21360" y="6014"/>
                  <a:pt x="21605" y="6003"/>
                </a:cubicBezTo>
                <a:cubicBezTo>
                  <a:pt x="21763" y="5996"/>
                  <a:pt x="21922" y="5967"/>
                  <a:pt x="22076" y="5953"/>
                </a:cubicBezTo>
                <a:cubicBezTo>
                  <a:pt x="22165" y="5945"/>
                  <a:pt x="22255" y="5978"/>
                  <a:pt x="22349" y="5978"/>
                </a:cubicBezTo>
                <a:cubicBezTo>
                  <a:pt x="22413" y="5978"/>
                  <a:pt x="22462" y="5965"/>
                  <a:pt x="22523" y="59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27960" y="2919240"/>
            <a:ext cx="581040" cy="536760"/>
          </a:xfrm>
          <a:custGeom>
            <a:avLst/>
            <a:gdLst/>
            <a:ahLst/>
            <a:rect l="l" t="t" r="r" b="b"/>
            <a:pathLst>
              <a:path w="1614" h="1489">
                <a:moveTo>
                  <a:pt x="21134" y="8136"/>
                </a:moveTo>
                <a:cubicBezTo>
                  <a:pt x="21081" y="8127"/>
                  <a:pt x="20982" y="8089"/>
                  <a:pt x="20935" y="8136"/>
                </a:cubicBezTo>
                <a:cubicBezTo>
                  <a:pt x="20894" y="8177"/>
                  <a:pt x="20947" y="8338"/>
                  <a:pt x="20960" y="8384"/>
                </a:cubicBezTo>
                <a:cubicBezTo>
                  <a:pt x="21058" y="8351"/>
                  <a:pt x="21186" y="8260"/>
                  <a:pt x="21258" y="8409"/>
                </a:cubicBezTo>
                <a:cubicBezTo>
                  <a:pt x="21321" y="8539"/>
                  <a:pt x="21138" y="8698"/>
                  <a:pt x="21034" y="8731"/>
                </a:cubicBezTo>
                <a:cubicBezTo>
                  <a:pt x="20923" y="8766"/>
                  <a:pt x="20924" y="8702"/>
                  <a:pt x="20910" y="8632"/>
                </a:cubicBezTo>
              </a:path>
              <a:path w="1614" h="1489">
                <a:moveTo>
                  <a:pt x="21754" y="8359"/>
                </a:moveTo>
                <a:cubicBezTo>
                  <a:pt x="21714" y="8458"/>
                  <a:pt x="21682" y="8534"/>
                  <a:pt x="21704" y="8632"/>
                </a:cubicBezTo>
                <a:cubicBezTo>
                  <a:pt x="21828" y="8655"/>
                  <a:pt x="22003" y="8628"/>
                  <a:pt x="22027" y="8458"/>
                </a:cubicBezTo>
                <a:cubicBezTo>
                  <a:pt x="22043" y="8343"/>
                  <a:pt x="21941" y="8292"/>
                  <a:pt x="21853" y="8285"/>
                </a:cubicBezTo>
                <a:cubicBezTo>
                  <a:pt x="21845" y="8285"/>
                  <a:pt x="21836" y="8285"/>
                  <a:pt x="21828" y="8285"/>
                </a:cubicBezTo>
              </a:path>
              <a:path w="1614" h="1489">
                <a:moveTo>
                  <a:pt x="22175" y="8186"/>
                </a:moveTo>
                <a:cubicBezTo>
                  <a:pt x="22266" y="8175"/>
                  <a:pt x="22272" y="8171"/>
                  <a:pt x="22374" y="8186"/>
                </a:cubicBezTo>
                <a:cubicBezTo>
                  <a:pt x="22374" y="8369"/>
                  <a:pt x="22268" y="8377"/>
                  <a:pt x="22175" y="8508"/>
                </a:cubicBezTo>
                <a:cubicBezTo>
                  <a:pt x="22183" y="8508"/>
                  <a:pt x="22192" y="8508"/>
                  <a:pt x="22200" y="8508"/>
                </a:cubicBezTo>
                <a:cubicBezTo>
                  <a:pt x="22295" y="8489"/>
                  <a:pt x="22378" y="8425"/>
                  <a:pt x="22473" y="8409"/>
                </a:cubicBezTo>
                <a:cubicBezTo>
                  <a:pt x="22498" y="8409"/>
                  <a:pt x="22506" y="8409"/>
                  <a:pt x="22523" y="8409"/>
                </a:cubicBezTo>
              </a:path>
              <a:path w="1614" h="1489">
                <a:moveTo>
                  <a:pt x="21332" y="9103"/>
                </a:moveTo>
                <a:cubicBezTo>
                  <a:pt x="21260" y="9111"/>
                  <a:pt x="21176" y="9110"/>
                  <a:pt x="21134" y="9178"/>
                </a:cubicBezTo>
                <a:cubicBezTo>
                  <a:pt x="21094" y="9242"/>
                  <a:pt x="21180" y="9281"/>
                  <a:pt x="21233" y="9277"/>
                </a:cubicBezTo>
                <a:cubicBezTo>
                  <a:pt x="21320" y="9271"/>
                  <a:pt x="21434" y="9230"/>
                  <a:pt x="21406" y="9376"/>
                </a:cubicBezTo>
                <a:cubicBezTo>
                  <a:pt x="21385" y="9482"/>
                  <a:pt x="21227" y="9454"/>
                  <a:pt x="21158" y="9426"/>
                </a:cubicBezTo>
                <a:cubicBezTo>
                  <a:pt x="21150" y="9418"/>
                  <a:pt x="21142" y="9409"/>
                  <a:pt x="21134" y="9401"/>
                </a:cubicBezTo>
              </a:path>
              <a:path w="1614" h="1489">
                <a:moveTo>
                  <a:pt x="21233" y="9079"/>
                </a:moveTo>
                <a:cubicBezTo>
                  <a:pt x="21244" y="9242"/>
                  <a:pt x="21293" y="9390"/>
                  <a:pt x="21307" y="9550"/>
                </a:cubicBezTo>
                <a:cubicBezTo>
                  <a:pt x="21307" y="9578"/>
                  <a:pt x="21309" y="9589"/>
                  <a:pt x="21332" y="95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1160" y="2652840"/>
            <a:ext cx="625680" cy="874440"/>
          </a:xfrm>
          <a:custGeom>
            <a:avLst/>
            <a:gdLst/>
            <a:ahLst/>
            <a:rect l="l" t="t" r="r" b="b"/>
            <a:pathLst>
              <a:path w="1737" h="2432">
                <a:moveTo>
                  <a:pt x="18380" y="9550"/>
                </a:moveTo>
                <a:cubicBezTo>
                  <a:pt x="18481" y="9550"/>
                  <a:pt x="18536" y="9514"/>
                  <a:pt x="18628" y="9475"/>
                </a:cubicBezTo>
              </a:path>
              <a:path w="1737" h="2432">
                <a:moveTo>
                  <a:pt x="18529" y="9351"/>
                </a:moveTo>
                <a:lnTo>
                  <a:pt x="18529" y="9351"/>
                </a:lnTo>
              </a:path>
              <a:path w="1737" h="2432">
                <a:moveTo>
                  <a:pt x="18628" y="9699"/>
                </a:moveTo>
                <a:lnTo>
                  <a:pt x="18628" y="9699"/>
                </a:lnTo>
              </a:path>
              <a:path w="1737" h="2432">
                <a:moveTo>
                  <a:pt x="18604" y="9798"/>
                </a:moveTo>
                <a:lnTo>
                  <a:pt x="18604" y="9798"/>
                </a:lnTo>
                <a:lnTo>
                  <a:pt x="18604" y="9798"/>
                </a:lnTo>
              </a:path>
              <a:path w="1737" h="2432">
                <a:moveTo>
                  <a:pt x="18752" y="9401"/>
                </a:moveTo>
                <a:cubicBezTo>
                  <a:pt x="18760" y="9393"/>
                  <a:pt x="18769" y="9384"/>
                  <a:pt x="18777" y="9376"/>
                </a:cubicBezTo>
              </a:path>
              <a:path w="1737" h="2432">
                <a:moveTo>
                  <a:pt x="18852" y="9178"/>
                </a:moveTo>
                <a:cubicBezTo>
                  <a:pt x="18852" y="9121"/>
                  <a:pt x="18852" y="9296"/>
                  <a:pt x="18852" y="9327"/>
                </a:cubicBezTo>
                <a:cubicBezTo>
                  <a:pt x="18852" y="9343"/>
                  <a:pt x="18852" y="9360"/>
                  <a:pt x="18852" y="9376"/>
                </a:cubicBezTo>
                <a:cubicBezTo>
                  <a:pt x="18873" y="9373"/>
                  <a:pt x="19017" y="9345"/>
                  <a:pt x="19025" y="9327"/>
                </a:cubicBezTo>
                <a:cubicBezTo>
                  <a:pt x="19025" y="9310"/>
                  <a:pt x="19025" y="9294"/>
                  <a:pt x="19025" y="9277"/>
                </a:cubicBezTo>
              </a:path>
              <a:path w="1737" h="2432">
                <a:moveTo>
                  <a:pt x="18976" y="9153"/>
                </a:moveTo>
                <a:cubicBezTo>
                  <a:pt x="18976" y="9276"/>
                  <a:pt x="18998" y="9406"/>
                  <a:pt x="19025" y="9525"/>
                </a:cubicBezTo>
                <a:cubicBezTo>
                  <a:pt x="19044" y="9582"/>
                  <a:pt x="19053" y="9589"/>
                  <a:pt x="19050" y="9624"/>
                </a:cubicBezTo>
              </a:path>
              <a:path w="1737" h="2432">
                <a:moveTo>
                  <a:pt x="19496" y="8781"/>
                </a:moveTo>
                <a:cubicBezTo>
                  <a:pt x="19564" y="8798"/>
                  <a:pt x="19688" y="8799"/>
                  <a:pt x="19720" y="8830"/>
                </a:cubicBezTo>
              </a:path>
              <a:path w="1737" h="2432">
                <a:moveTo>
                  <a:pt x="19596" y="8954"/>
                </a:moveTo>
                <a:cubicBezTo>
                  <a:pt x="19673" y="8949"/>
                  <a:pt x="19702" y="8943"/>
                  <a:pt x="19769" y="8930"/>
                </a:cubicBezTo>
              </a:path>
              <a:path w="1737" h="2432">
                <a:moveTo>
                  <a:pt x="18033" y="7764"/>
                </a:moveTo>
                <a:cubicBezTo>
                  <a:pt x="18070" y="7702"/>
                  <a:pt x="18137" y="7675"/>
                  <a:pt x="18207" y="7640"/>
                </a:cubicBezTo>
              </a:path>
              <a:path w="1737" h="2432">
                <a:moveTo>
                  <a:pt x="18107" y="7417"/>
                </a:moveTo>
                <a:cubicBezTo>
                  <a:pt x="18107" y="7392"/>
                  <a:pt x="18107" y="7384"/>
                  <a:pt x="18083" y="7392"/>
                </a:cubicBezTo>
              </a:path>
              <a:path w="1737" h="2432">
                <a:moveTo>
                  <a:pt x="18256" y="7888"/>
                </a:moveTo>
                <a:cubicBezTo>
                  <a:pt x="18256" y="7880"/>
                  <a:pt x="18256" y="7871"/>
                  <a:pt x="18256" y="7863"/>
                </a:cubicBezTo>
              </a:path>
              <a:path w="1737" h="2432">
                <a:moveTo>
                  <a:pt x="18802" y="7541"/>
                </a:moveTo>
                <a:cubicBezTo>
                  <a:pt x="18802" y="7471"/>
                  <a:pt x="18808" y="7622"/>
                  <a:pt x="18827" y="7689"/>
                </a:cubicBezTo>
                <a:cubicBezTo>
                  <a:pt x="18835" y="7697"/>
                  <a:pt x="18844" y="7706"/>
                  <a:pt x="18852" y="7714"/>
                </a:cubicBezTo>
                <a:cubicBezTo>
                  <a:pt x="18951" y="7697"/>
                  <a:pt x="19015" y="7641"/>
                  <a:pt x="19100" y="7590"/>
                </a:cubicBezTo>
              </a:path>
              <a:path w="1737" h="2432">
                <a:moveTo>
                  <a:pt x="19000" y="7367"/>
                </a:moveTo>
                <a:cubicBezTo>
                  <a:pt x="19042" y="7502"/>
                  <a:pt x="19067" y="7652"/>
                  <a:pt x="19100" y="7789"/>
                </a:cubicBezTo>
                <a:cubicBezTo>
                  <a:pt x="19100" y="7797"/>
                  <a:pt x="19100" y="7805"/>
                  <a:pt x="19100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39040" y="3143160"/>
            <a:ext cx="625320" cy="349200"/>
          </a:xfrm>
          <a:custGeom>
            <a:avLst/>
            <a:gdLst/>
            <a:ahLst/>
            <a:rect l="l" t="t" r="r" b="b"/>
            <a:pathLst>
              <a:path w="1738" h="969">
                <a:moveTo>
                  <a:pt x="20662" y="8954"/>
                </a:moveTo>
                <a:cubicBezTo>
                  <a:pt x="20758" y="8926"/>
                  <a:pt x="20876" y="8918"/>
                  <a:pt x="20985" y="8905"/>
                </a:cubicBezTo>
                <a:cubicBezTo>
                  <a:pt x="21306" y="8868"/>
                  <a:pt x="21632" y="8893"/>
                  <a:pt x="21952" y="8855"/>
                </a:cubicBezTo>
                <a:cubicBezTo>
                  <a:pt x="22089" y="8839"/>
                  <a:pt x="22217" y="8757"/>
                  <a:pt x="22349" y="8731"/>
                </a:cubicBezTo>
                <a:cubicBezTo>
                  <a:pt x="22374" y="8731"/>
                  <a:pt x="22382" y="8731"/>
                  <a:pt x="22399" y="8731"/>
                </a:cubicBezTo>
              </a:path>
              <a:path w="1738" h="969">
                <a:moveTo>
                  <a:pt x="21828" y="9203"/>
                </a:moveTo>
                <a:cubicBezTo>
                  <a:pt x="21828" y="9096"/>
                  <a:pt x="21828" y="9368"/>
                  <a:pt x="21828" y="9475"/>
                </a:cubicBezTo>
                <a:cubicBezTo>
                  <a:pt x="21828" y="9550"/>
                  <a:pt x="21828" y="9624"/>
                  <a:pt x="21828" y="96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8040" y="2608200"/>
            <a:ext cx="662040" cy="71640"/>
          </a:xfrm>
          <a:custGeom>
            <a:avLst/>
            <a:gdLst/>
            <a:ahLst/>
            <a:rect l="l" t="t" r="r" b="b"/>
            <a:pathLst>
              <a:path w="1837" h="199">
                <a:moveTo>
                  <a:pt x="13965" y="7441"/>
                </a:moveTo>
                <a:cubicBezTo>
                  <a:pt x="13957" y="7391"/>
                  <a:pt x="13960" y="7418"/>
                  <a:pt x="13940" y="7392"/>
                </a:cubicBezTo>
                <a:cubicBezTo>
                  <a:pt x="14060" y="7362"/>
                  <a:pt x="14271" y="7392"/>
                  <a:pt x="14412" y="7392"/>
                </a:cubicBezTo>
                <a:cubicBezTo>
                  <a:pt x="14646" y="7392"/>
                  <a:pt x="14875" y="7352"/>
                  <a:pt x="15106" y="7317"/>
                </a:cubicBezTo>
                <a:cubicBezTo>
                  <a:pt x="15253" y="7295"/>
                  <a:pt x="15437" y="7313"/>
                  <a:pt x="15577" y="7268"/>
                </a:cubicBezTo>
                <a:cubicBezTo>
                  <a:pt x="15628" y="7252"/>
                  <a:pt x="15636" y="7243"/>
                  <a:pt x="15701" y="7243"/>
                </a:cubicBezTo>
                <a:cubicBezTo>
                  <a:pt x="15726" y="7243"/>
                  <a:pt x="15751" y="7243"/>
                  <a:pt x="15776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8920" y="2901960"/>
            <a:ext cx="1177920" cy="635040"/>
          </a:xfrm>
          <a:custGeom>
            <a:avLst/>
            <a:gdLst/>
            <a:ahLst/>
            <a:rect l="l" t="t" r="r" b="b"/>
            <a:pathLst>
              <a:path w="3275" h="1762">
                <a:moveTo>
                  <a:pt x="16669" y="8161"/>
                </a:moveTo>
                <a:cubicBezTo>
                  <a:pt x="16726" y="8026"/>
                  <a:pt x="16942" y="8053"/>
                  <a:pt x="17016" y="8210"/>
                </a:cubicBezTo>
                <a:cubicBezTo>
                  <a:pt x="17171" y="8538"/>
                  <a:pt x="16824" y="8701"/>
                  <a:pt x="16594" y="8781"/>
                </a:cubicBezTo>
                <a:cubicBezTo>
                  <a:pt x="16645" y="8598"/>
                  <a:pt x="16773" y="8383"/>
                  <a:pt x="17016" y="8483"/>
                </a:cubicBezTo>
                <a:cubicBezTo>
                  <a:pt x="17078" y="8546"/>
                  <a:pt x="17095" y="8556"/>
                  <a:pt x="17115" y="8607"/>
                </a:cubicBezTo>
              </a:path>
              <a:path w="3275" h="1762">
                <a:moveTo>
                  <a:pt x="17338" y="8086"/>
                </a:moveTo>
                <a:cubicBezTo>
                  <a:pt x="17304" y="8195"/>
                  <a:pt x="17167" y="8576"/>
                  <a:pt x="17438" y="8533"/>
                </a:cubicBezTo>
                <a:cubicBezTo>
                  <a:pt x="17651" y="8500"/>
                  <a:pt x="17796" y="8251"/>
                  <a:pt x="17611" y="8086"/>
                </a:cubicBezTo>
                <a:cubicBezTo>
                  <a:pt x="17530" y="8014"/>
                  <a:pt x="17427" y="8096"/>
                  <a:pt x="17363" y="8136"/>
                </a:cubicBezTo>
              </a:path>
              <a:path w="3275" h="1762">
                <a:moveTo>
                  <a:pt x="17934" y="8310"/>
                </a:moveTo>
                <a:cubicBezTo>
                  <a:pt x="17901" y="8408"/>
                  <a:pt x="17829" y="8793"/>
                  <a:pt x="18083" y="8632"/>
                </a:cubicBezTo>
                <a:cubicBezTo>
                  <a:pt x="18276" y="8510"/>
                  <a:pt x="18211" y="8390"/>
                  <a:pt x="18083" y="8310"/>
                </a:cubicBezTo>
                <a:cubicBezTo>
                  <a:pt x="18075" y="8302"/>
                  <a:pt x="18066" y="8293"/>
                  <a:pt x="18058" y="8285"/>
                </a:cubicBezTo>
              </a:path>
              <a:path w="3275" h="1762">
                <a:moveTo>
                  <a:pt x="18256" y="8210"/>
                </a:moveTo>
                <a:cubicBezTo>
                  <a:pt x="18346" y="8194"/>
                  <a:pt x="18549" y="8127"/>
                  <a:pt x="18554" y="8285"/>
                </a:cubicBezTo>
                <a:cubicBezTo>
                  <a:pt x="18557" y="8381"/>
                  <a:pt x="18474" y="8452"/>
                  <a:pt x="18455" y="8533"/>
                </a:cubicBezTo>
                <a:cubicBezTo>
                  <a:pt x="18559" y="8533"/>
                  <a:pt x="18651" y="8502"/>
                  <a:pt x="18752" y="8483"/>
                </a:cubicBezTo>
                <a:cubicBezTo>
                  <a:pt x="18760" y="8483"/>
                  <a:pt x="18769" y="8483"/>
                  <a:pt x="18777" y="8483"/>
                </a:cubicBezTo>
              </a:path>
              <a:path w="3275" h="1762">
                <a:moveTo>
                  <a:pt x="16570" y="9203"/>
                </a:moveTo>
                <a:cubicBezTo>
                  <a:pt x="16534" y="9183"/>
                  <a:pt x="16516" y="9170"/>
                  <a:pt x="16495" y="9153"/>
                </a:cubicBezTo>
                <a:cubicBezTo>
                  <a:pt x="16635" y="9095"/>
                  <a:pt x="16857" y="9075"/>
                  <a:pt x="17041" y="9054"/>
                </a:cubicBezTo>
                <a:cubicBezTo>
                  <a:pt x="17517" y="9000"/>
                  <a:pt x="18000" y="8953"/>
                  <a:pt x="18479" y="8930"/>
                </a:cubicBezTo>
                <a:cubicBezTo>
                  <a:pt x="18586" y="8925"/>
                  <a:pt x="18695" y="8930"/>
                  <a:pt x="18802" y="8930"/>
                </a:cubicBezTo>
              </a:path>
              <a:path w="3275" h="1762">
                <a:moveTo>
                  <a:pt x="17165" y="9277"/>
                </a:moveTo>
                <a:cubicBezTo>
                  <a:pt x="17121" y="9211"/>
                  <a:pt x="17010" y="9260"/>
                  <a:pt x="16942" y="9302"/>
                </a:cubicBezTo>
                <a:cubicBezTo>
                  <a:pt x="16934" y="9310"/>
                  <a:pt x="16925" y="9319"/>
                  <a:pt x="16917" y="9327"/>
                </a:cubicBezTo>
                <a:cubicBezTo>
                  <a:pt x="16976" y="9414"/>
                  <a:pt x="17071" y="9432"/>
                  <a:pt x="17140" y="9500"/>
                </a:cubicBezTo>
                <a:cubicBezTo>
                  <a:pt x="17226" y="9585"/>
                  <a:pt x="17011" y="9662"/>
                  <a:pt x="16942" y="9599"/>
                </a:cubicBezTo>
                <a:cubicBezTo>
                  <a:pt x="16942" y="9583"/>
                  <a:pt x="16942" y="9566"/>
                  <a:pt x="16942" y="9550"/>
                </a:cubicBezTo>
              </a:path>
              <a:path w="3275" h="1762">
                <a:moveTo>
                  <a:pt x="17066" y="9227"/>
                </a:moveTo>
                <a:cubicBezTo>
                  <a:pt x="17116" y="9381"/>
                  <a:pt x="17155" y="9513"/>
                  <a:pt x="17165" y="9674"/>
                </a:cubicBezTo>
              </a:path>
              <a:path w="3275" h="1762">
                <a:moveTo>
                  <a:pt x="17512" y="9302"/>
                </a:moveTo>
                <a:cubicBezTo>
                  <a:pt x="17530" y="9338"/>
                  <a:pt x="17561" y="9482"/>
                  <a:pt x="17587" y="9500"/>
                </a:cubicBezTo>
                <a:cubicBezTo>
                  <a:pt x="17665" y="9553"/>
                  <a:pt x="17862" y="9464"/>
                  <a:pt x="17934" y="9426"/>
                </a:cubicBezTo>
                <a:cubicBezTo>
                  <a:pt x="17942" y="9418"/>
                  <a:pt x="17951" y="9409"/>
                  <a:pt x="17959" y="9401"/>
                </a:cubicBezTo>
              </a:path>
              <a:path w="3275" h="1762">
                <a:moveTo>
                  <a:pt x="17909" y="9128"/>
                </a:moveTo>
                <a:cubicBezTo>
                  <a:pt x="17919" y="9333"/>
                  <a:pt x="17938" y="9553"/>
                  <a:pt x="18008" y="9748"/>
                </a:cubicBezTo>
                <a:cubicBezTo>
                  <a:pt x="18016" y="9756"/>
                  <a:pt x="18025" y="9765"/>
                  <a:pt x="18033" y="9773"/>
                </a:cubicBezTo>
              </a:path>
              <a:path w="3275" h="1762">
                <a:moveTo>
                  <a:pt x="19397" y="9823"/>
                </a:moveTo>
                <a:cubicBezTo>
                  <a:pt x="19397" y="9771"/>
                  <a:pt x="19396" y="9753"/>
                  <a:pt x="19372" y="9723"/>
                </a:cubicBezTo>
              </a:path>
              <a:path w="3275" h="1762">
                <a:moveTo>
                  <a:pt x="19372" y="9674"/>
                </a:moveTo>
                <a:cubicBezTo>
                  <a:pt x="19473" y="9659"/>
                  <a:pt x="19571" y="9647"/>
                  <a:pt x="19670" y="9624"/>
                </a:cubicBezTo>
              </a:path>
              <a:path w="3275" h="1762">
                <a:moveTo>
                  <a:pt x="19670" y="9624"/>
                </a:moveTo>
                <a:lnTo>
                  <a:pt x="19670" y="9624"/>
                </a:lnTo>
              </a:path>
              <a:path w="3275" h="1762">
                <a:moveTo>
                  <a:pt x="19521" y="9823"/>
                </a:moveTo>
                <a:cubicBezTo>
                  <a:pt x="19537" y="9816"/>
                  <a:pt x="19809" y="9723"/>
                  <a:pt x="19745" y="97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2040" y="3187800"/>
            <a:ext cx="810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4089" y="8855"/>
                </a:moveTo>
                <a:cubicBezTo>
                  <a:pt x="14149" y="8865"/>
                  <a:pt x="14204" y="8899"/>
                  <a:pt x="14263" y="8905"/>
                </a:cubicBezTo>
                <a:cubicBezTo>
                  <a:pt x="14271" y="8905"/>
                  <a:pt x="14280" y="8905"/>
                  <a:pt x="14288" y="8905"/>
                </a:cubicBezTo>
              </a:path>
              <a:path w="224" h="225">
                <a:moveTo>
                  <a:pt x="14114" y="9079"/>
                </a:moveTo>
                <a:cubicBezTo>
                  <a:pt x="14180" y="9079"/>
                  <a:pt x="14246" y="9079"/>
                  <a:pt x="14312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7840" y="33480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3494" y="9475"/>
                </a:moveTo>
                <a:cubicBezTo>
                  <a:pt x="13560" y="9443"/>
                  <a:pt x="13613" y="9472"/>
                  <a:pt x="13667" y="9451"/>
                </a:cubicBezTo>
              </a:path>
              <a:path w="472" h="497">
                <a:moveTo>
                  <a:pt x="13519" y="9302"/>
                </a:moveTo>
                <a:cubicBezTo>
                  <a:pt x="13519" y="9310"/>
                  <a:pt x="13519" y="9319"/>
                  <a:pt x="13519" y="9327"/>
                </a:cubicBezTo>
              </a:path>
              <a:path w="472" h="497">
                <a:moveTo>
                  <a:pt x="13519" y="9327"/>
                </a:moveTo>
                <a:lnTo>
                  <a:pt x="13519" y="9327"/>
                </a:lnTo>
              </a:path>
              <a:path w="472" h="497">
                <a:moveTo>
                  <a:pt x="13519" y="9699"/>
                </a:moveTo>
                <a:cubicBezTo>
                  <a:pt x="13544" y="9674"/>
                  <a:pt x="13568" y="9649"/>
                  <a:pt x="13593" y="9624"/>
                </a:cubicBezTo>
              </a:path>
              <a:path w="472" h="497">
                <a:moveTo>
                  <a:pt x="13717" y="9451"/>
                </a:moveTo>
                <a:cubicBezTo>
                  <a:pt x="13777" y="9441"/>
                  <a:pt x="13828" y="9426"/>
                  <a:pt x="13891" y="9426"/>
                </a:cubicBezTo>
                <a:cubicBezTo>
                  <a:pt x="13889" y="9441"/>
                  <a:pt x="13844" y="9590"/>
                  <a:pt x="13866" y="9599"/>
                </a:cubicBezTo>
                <a:cubicBezTo>
                  <a:pt x="13923" y="9622"/>
                  <a:pt x="13990" y="9588"/>
                  <a:pt x="13965" y="9699"/>
                </a:cubicBezTo>
                <a:cubicBezTo>
                  <a:pt x="13938" y="9818"/>
                  <a:pt x="13893" y="9806"/>
                  <a:pt x="13816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11920" y="382104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6421" y="10616"/>
                </a:moveTo>
                <a:cubicBezTo>
                  <a:pt x="16429" y="10616"/>
                  <a:pt x="16438" y="10616"/>
                  <a:pt x="16446" y="106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41960" y="3062160"/>
            <a:ext cx="108000" cy="907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4560" y="8558"/>
                </a:moveTo>
                <a:cubicBezTo>
                  <a:pt x="14583" y="8535"/>
                  <a:pt x="14591" y="8531"/>
                  <a:pt x="14585" y="8508"/>
                </a:cubicBezTo>
                <a:cubicBezTo>
                  <a:pt x="14574" y="8593"/>
                  <a:pt x="14565" y="8671"/>
                  <a:pt x="14560" y="8756"/>
                </a:cubicBezTo>
                <a:cubicBezTo>
                  <a:pt x="14666" y="8730"/>
                  <a:pt x="14796" y="8686"/>
                  <a:pt x="14858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13240" y="3036960"/>
            <a:ext cx="27000" cy="187200"/>
          </a:xfrm>
          <a:custGeom>
            <a:avLst/>
            <a:gdLst/>
            <a:ahLst/>
            <a:rect l="l" t="t" r="r" b="b"/>
            <a:pathLst>
              <a:path w="75" h="521">
                <a:moveTo>
                  <a:pt x="14759" y="8434"/>
                </a:moveTo>
                <a:cubicBezTo>
                  <a:pt x="14783" y="8599"/>
                  <a:pt x="14803" y="8772"/>
                  <a:pt x="14833" y="8930"/>
                </a:cubicBezTo>
                <a:cubicBezTo>
                  <a:pt x="14833" y="8938"/>
                  <a:pt x="14833" y="8946"/>
                  <a:pt x="14833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2800" y="3071880"/>
            <a:ext cx="730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15007" y="8533"/>
                </a:moveTo>
                <a:cubicBezTo>
                  <a:pt x="14992" y="8640"/>
                  <a:pt x="14976" y="8703"/>
                  <a:pt x="15007" y="8806"/>
                </a:cubicBezTo>
                <a:cubicBezTo>
                  <a:pt x="15051" y="8776"/>
                  <a:pt x="15217" y="8663"/>
                  <a:pt x="15156" y="8632"/>
                </a:cubicBezTo>
                <a:cubicBezTo>
                  <a:pt x="15089" y="8610"/>
                  <a:pt x="15071" y="8605"/>
                  <a:pt x="15032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56160" y="3044880"/>
            <a:ext cx="81000" cy="982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5156" y="8483"/>
                </a:moveTo>
                <a:cubicBezTo>
                  <a:pt x="15217" y="8466"/>
                  <a:pt x="15244" y="8458"/>
                  <a:pt x="15304" y="8458"/>
                </a:cubicBezTo>
                <a:cubicBezTo>
                  <a:pt x="15297" y="8570"/>
                  <a:pt x="15280" y="8632"/>
                  <a:pt x="15230" y="8731"/>
                </a:cubicBezTo>
                <a:cubicBezTo>
                  <a:pt x="15280" y="8731"/>
                  <a:pt x="15329" y="8731"/>
                  <a:pt x="15379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41960" y="3268800"/>
            <a:ext cx="366840" cy="44280"/>
          </a:xfrm>
          <a:custGeom>
            <a:avLst/>
            <a:gdLst/>
            <a:ahLst/>
            <a:rect l="l" t="t" r="r" b="b"/>
            <a:pathLst>
              <a:path w="1018" h="125">
                <a:moveTo>
                  <a:pt x="14560" y="9203"/>
                </a:moveTo>
                <a:cubicBezTo>
                  <a:pt x="14725" y="9203"/>
                  <a:pt x="14892" y="9129"/>
                  <a:pt x="15056" y="9103"/>
                </a:cubicBezTo>
                <a:cubicBezTo>
                  <a:pt x="15231" y="9076"/>
                  <a:pt x="15401" y="9079"/>
                  <a:pt x="15577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03880" y="3348000"/>
            <a:ext cx="71280" cy="11736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14883" y="9302"/>
                </a:moveTo>
                <a:cubicBezTo>
                  <a:pt x="14811" y="9320"/>
                  <a:pt x="14775" y="9390"/>
                  <a:pt x="14734" y="9451"/>
                </a:cubicBezTo>
                <a:cubicBezTo>
                  <a:pt x="14850" y="9467"/>
                  <a:pt x="14895" y="9476"/>
                  <a:pt x="14932" y="9575"/>
                </a:cubicBezTo>
                <a:cubicBezTo>
                  <a:pt x="14859" y="9648"/>
                  <a:pt x="14822" y="9637"/>
                  <a:pt x="14759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22960" y="3384720"/>
            <a:ext cx="44280" cy="8856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14784" y="9401"/>
                </a:moveTo>
                <a:cubicBezTo>
                  <a:pt x="14839" y="9480"/>
                  <a:pt x="14869" y="9572"/>
                  <a:pt x="14908" y="9649"/>
                </a:cubicBezTo>
                <a:cubicBezTo>
                  <a:pt x="14908" y="9641"/>
                  <a:pt x="14908" y="9632"/>
                  <a:pt x="1490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64080" y="3348000"/>
            <a:ext cx="460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15180" y="9302"/>
                </a:moveTo>
                <a:cubicBezTo>
                  <a:pt x="15223" y="9438"/>
                  <a:pt x="15278" y="9585"/>
                  <a:pt x="15304" y="9723"/>
                </a:cubicBezTo>
                <a:cubicBezTo>
                  <a:pt x="15304" y="9740"/>
                  <a:pt x="15304" y="9756"/>
                  <a:pt x="15304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Rat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lizabeth mcgrath</cp:lastModifiedBy>
  <dcterms:modified xsi:type="dcterms:W3CDTF">2011-05-10T19:16:48Z</dcterms:modified>
  <cp:revision>9</cp:revision>
  <dc:subject/>
  <dc:title>Unit 13</dc:title>
</cp:coreProperties>
</file>